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9B4A6-B95F-4FF0-B6EA-BC3405FF55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9A4D6-5D1A-4AC5-A3C8-C05916253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5EC5B-36BC-40E0-AC27-3451137365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EE7C3-FB17-408C-8EF8-59B36BB28B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8562A-D56A-4DFD-BE04-DA569CCF88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6C91A-EC09-4771-BFFD-A78F4C7A52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17AEA-010B-4B74-85C4-8376FE002F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50F5F-495D-4193-B143-D2834780F8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66B4B-6160-4E7B-8469-C22F2F61E1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AB364-DD10-4A55-823F-59396F5545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3037B-20D6-4F0F-A91C-3B118E327B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9517E-08E6-4FB6-9273-B2FD37E96A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E6E1E-0D04-41C0-9E66-21BB7E18CA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FFDB9-7E1D-4415-8FD3-9ABD679B11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B418F-BAB4-4E73-A35D-71414FD26E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60041-702C-48EA-8918-664F1114F7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A22FD-8758-49FA-B7A6-47CAFB7D9E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Charles Wilson</cp:lastModifiedBy>
  <cp:lastPrinted>2008-06-04T21:47:01Z</cp:lastPrinted>
  <dcterms:modified xsi:type="dcterms:W3CDTF">2008-06-05T21:29:01Z</dcterms:modified>
  <cp:revision>86</cp:revision>
  <dc:subject/>
  <dc:title>AT Basic System Example</dc:title>
</cp:coreProperties>
</file>