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5914-BC87-4031-A220-1BEBEA9E6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48D6-B85C-4DD1-A396-DD76E1824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40A0-B223-4E85-9BDA-35F017846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18CC-773A-4657-A9A5-C4F75CC24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8ADC-296F-4A2E-B997-624BDC306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1647F-FBC4-4F1C-B643-ED0B5EF27E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8A0F3-97A1-431C-A248-BDB36A2A0C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2897E-F2FE-4D4A-A251-6C12DC50E1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484FA-0F23-49DC-8CAA-2150872DAD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BEC16-C189-4970-8295-CC5EE4A4AB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4573B-C60A-48F9-B36B-735158086E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9E9AC-74A1-4813-9D2E-C2299D70D0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9FCD5-C617-4EB8-9729-CE6201AFB6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5B356-0C40-489D-9FAD-1F09E90C1F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41025-CB34-4ADE-A13C-1626C745DB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9B624-A7EF-406C-AFC5-F6CF21110C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086CA-8485-401E-8E59-734AD3E589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8B40-A556-4F08-9F15-E8182A738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72160" y="863640"/>
            <a:ext cx="59047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2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2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3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06360" y="860400"/>
            <a:ext cx="57373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7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bw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18:30:41Z</cp:lastPrinted>
  <dcterms:modified xsi:type="dcterms:W3CDTF">2008-06-04T21:41:17Z</dcterms:modified>
  <cp:revision>88</cp:revision>
  <dc:subject/>
  <dc:title>AT Basic System Example</dc:title>
</cp:coreProperties>
</file>