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7FE58-556F-45B5-8AAC-A212EE844A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A7068-0F39-4656-AFA3-65CAABC51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3F505-2D09-4321-A175-E1DD18CEE3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DFA95-686C-4347-A268-9256722CF6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F8A3F-1B9D-41FC-B764-FFA8A8108F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435A3-23EB-46D1-9C51-554634C705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F7ACB-E4E1-4BD0-9442-C08D2B8F12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98468-3102-4B97-96CA-C053266EE9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2AB05-ADEC-4053-A62B-64343B5D14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44355-D242-4FB6-9DDF-9E275E2EFB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536EE-02EE-4735-9535-215B5FE568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8AEFD-A2B4-41C8-828A-AD643CA727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37B0F-9796-4C0A-9D56-02364452E1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56D2B-B502-4D33-9F94-4144CA3056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D0799-4785-4142-8B4A-3109DAAE3A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4581D-65E7-494D-9849-BE9927F8C9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04655-B4F9-4685-AD9E-040FB122B8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A8AF6-199C-4520-832D-1F4B74C727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47:01Z</cp:lastPrinted>
  <dcterms:modified xsi:type="dcterms:W3CDTF">2008-06-05T12:39:23Z</dcterms:modified>
  <cp:revision>85</cp:revision>
  <dc:subject/>
  <dc:title>AT Basic System Example</dc:title>
</cp:coreProperties>
</file>