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BB6DA-D5F8-4E1E-AF23-BCBDF8F01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A75F8-BF16-4AE9-B353-C8FB5873B9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38871-C12E-434C-BB30-D8B54B7556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D6286-9107-45AD-AEB5-0A03CAF9E1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9BA5A-D2D2-426D-985E-96EC4643D2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82755-4327-4E88-8DF2-CCABFAF540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D248B-103C-48C1-A278-02AB93F4A7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CEECC-F26D-4CAE-BF35-3AA657FBD4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98121-CF46-4BD8-88C1-95CF3B3DFD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AEE40-0204-4C1C-9E99-77CC788D99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10C3A-1608-479F-9C25-B51E53DD27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784E5-540D-4AED-875A-AAA461A188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68FF5-471F-4BC5-B844-5BCE4F94BC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D562B-8CFD-4192-9837-DD460E3B48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A2974-28CD-4C30-8291-72261C7243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2A70C-DE9E-4267-B106-A282844E37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06B12-8841-487B-80F6-B17A19B40F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5B783-4B72-40BE-A8BB-8945CCF6C7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07F25-38FB-46BE-B732-38CEBBAB5B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0AEA0-322C-47D5-AD40-AD14A4C99A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9F2E4-E548-49A4-A047-77CBE648F8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76BE8-AF1B-4DBB-88BE-6ED095BB5D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D84F0-FD65-4E71-ADBE-3AFC4FC307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E80DD-79DD-4181-9C94-D5B1AD9F04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59CFB-E212-47CC-8824-C2E6A7203C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394A6-CFAE-4FE4-8720-6718D53EE6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0081E-E5DE-47FF-B8EE-2C923B44D6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9ED63-F662-406F-912B-DEC461487D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1F0FC-BFC7-469F-B03D-ABECD0DA43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0EC76-7A3F-4DE0-A85E-9E32A3E8AB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B0A8C-F49D-4DB5-9EC6-66823B9119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EBD43-CD13-4C1B-B067-F79AAFEE6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8FC96-4136-494F-8C13-D84D3963B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22A39-FBB3-42C3-B0A1-2AC2749A5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448F3-497B-4ED4-AFFE-EADFE937A5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5C44F-145B-4F39-91FA-5933E6E3F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D9DFD-F4C9-4ADF-B255-682F7C4A6E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47BE6-CAD8-4AC1-AE62-20963FC26B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C3006-05B5-4053-BEDD-919F2F330C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AEC64-F07E-4160-AE95-CEC300A03C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15125-5CF1-4F9A-970D-6074524222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D4535-BAE6-4539-8FA8-5CD89A16D41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BAD36-EDBB-43C8-B6E0-6CDA4F1E00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200D3-EB5D-4E17-AD1F-C568ED3C6D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79BDA-033E-4F62-9EA4-2CCC5AB1F9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EC20A-453B-425A-89FE-6D0F1871791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E4002-EFC5-4927-97C3-182D153249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1ADD6-4205-405C-B929-AC1B968739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D3CAE-6034-41A7-939C-433998430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F8090-0907-4B8F-AB70-2E21661C28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DA056-F3A6-43CD-8324-E23582F2F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69894-DF94-45D1-B9B2-4B59ED2CD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7F2C-61FB-4E02-91BD-304D33F5DA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2397-B9DC-4F46-8756-DF4371AD3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9F269-D154-447A-95E0-ACDD07732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5A185-812D-4958-8474-568D61CA71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CD37DF2B-036B-4B55-A8B8-3AA972404E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657600" y="5105520"/>
            <a:ext cx="4800600" cy="119988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Indirectly Associating Parameter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 translation (e.g. units) is demonstrated  between the associated parameter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30492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In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1981080" y="1143000"/>
            <a:ext cx="5410440" cy="1066680"/>
            <a:chOff x="1981080" y="1143000"/>
            <a:chExt cx="5410440" cy="1066680"/>
          </a:xfrm>
        </p:grpSpPr>
        <p:sp>
          <p:nvSpPr>
            <p:cNvPr id="188" name="AutoShape 23"/>
            <p:cNvSpPr/>
            <p:nvPr/>
          </p:nvSpPr>
          <p:spPr>
            <a:xfrm>
              <a:off x="1981080" y="1143000"/>
              <a:ext cx="5410440" cy="685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the handles of the of the owner modules’ parameters with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he configuration broker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200400" y="1838160"/>
              <a:ext cx="236232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220760" y="320040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220760" y="371016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6200" y="236232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48"/>
          <p:cNvGrpSpPr/>
          <p:nvPr/>
        </p:nvGrpSpPr>
        <p:grpSpPr>
          <a:xfrm>
            <a:off x="609480" y="3048120"/>
            <a:ext cx="7925040" cy="1403280"/>
            <a:chOff x="609480" y="3048120"/>
            <a:chExt cx="7925040" cy="1403280"/>
          </a:xfrm>
        </p:grpSpPr>
        <p:sp>
          <p:nvSpPr>
            <p:cNvPr id="210" name="AutoShape 23"/>
            <p:cNvSpPr/>
            <p:nvPr/>
          </p:nvSpPr>
          <p:spPr>
            <a:xfrm>
              <a:off x="609480" y="3048120"/>
              <a:ext cx="7925040" cy="9903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62240" y="4146480"/>
              <a:ext cx="2743200" cy="304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_with_cf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2762640" y="1331640"/>
            <a:ext cx="4152240" cy="878040"/>
            <a:chOff x="2762640" y="1331640"/>
            <a:chExt cx="4152240" cy="878040"/>
          </a:xfrm>
        </p:grpSpPr>
        <p:sp>
          <p:nvSpPr>
            <p:cNvPr id="214" name="AutoShape 23"/>
            <p:cNvSpPr/>
            <p:nvPr/>
          </p:nvSpPr>
          <p:spPr>
            <a:xfrm>
              <a:off x="2762640" y="1331640"/>
              <a:ext cx="415224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parameter hand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352680" y="1837800"/>
              <a:ext cx="2362320" cy="3718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379240" y="2437560"/>
            <a:ext cx="491904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parameters using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_cf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2895480" y="3200400"/>
            <a:ext cx="541044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write it’s default valu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o the other cci-parameter using set_cci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762120" y="320040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th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artup value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4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1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2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3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4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5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6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7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48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49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0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1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2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3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4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AutoShape 23"/>
          <p:cNvSpPr/>
          <p:nvPr/>
        </p:nvSpPr>
        <p:spPr>
          <a:xfrm>
            <a:off x="667080" y="3351600"/>
            <a:ext cx="79621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677880" y="2308320"/>
            <a:ext cx="7856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the values of parameter of the two own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WithCF(cci::cci_param_handle _param_handle_1, cci::cci_param_handle _param_handle_2,  double conversion_factor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58" name="Curved Connector 10"/>
          <p:cNvCxnSpPr>
            <a:stCxn id="254" idx="0"/>
            <a:endCxn id="255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59" name="AutoShape 6"/>
          <p:cNvSpPr/>
          <p:nvPr/>
        </p:nvSpPr>
        <p:spPr>
          <a:xfrm>
            <a:off x="3298680" y="4143240"/>
            <a:ext cx="251316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0" name="Curved Connector 10"/>
          <p:cNvCxnSpPr>
            <a:stCxn id="261" idx="4"/>
            <a:endCxn id="245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2" name="Group 54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3" name="AutoShape 15"/>
            <p:cNvSpPr/>
            <p:nvPr/>
          </p:nvSpPr>
          <p:spPr>
            <a:xfrm>
              <a:off x="6934320" y="464832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1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4" name="Rectangle 53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6" name="Group 40"/>
          <p:cNvGrpSpPr/>
          <p:nvPr/>
        </p:nvGrpSpPr>
        <p:grpSpPr>
          <a:xfrm>
            <a:off x="2147760" y="1121760"/>
            <a:ext cx="4772520" cy="876960"/>
            <a:chOff x="2147760" y="1121760"/>
            <a:chExt cx="4772520" cy="876960"/>
          </a:xfrm>
        </p:grpSpPr>
        <p:sp>
          <p:nvSpPr>
            <p:cNvPr id="267" name="AutoShape 5"/>
            <p:cNvSpPr/>
            <p:nvPr/>
          </p:nvSpPr>
          <p:spPr>
            <a:xfrm>
              <a:off x="3374640" y="1622160"/>
              <a:ext cx="2362680" cy="3765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8" name="AutoShape 23"/>
            <p:cNvSpPr/>
            <p:nvPr/>
          </p:nvSpPr>
          <p:spPr>
            <a:xfrm>
              <a:off x="2147760" y="1121760"/>
              <a:ext cx="477252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handles of the parameter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58"/>
          <p:cNvGrpSpPr/>
          <p:nvPr/>
        </p:nvGrpSpPr>
        <p:grpSpPr>
          <a:xfrm>
            <a:off x="76320" y="3274920"/>
            <a:ext cx="8961480" cy="2551320"/>
            <a:chOff x="76320" y="3274920"/>
            <a:chExt cx="8961480" cy="2551320"/>
          </a:xfrm>
        </p:grpSpPr>
        <p:grpSp>
          <p:nvGrpSpPr>
            <p:cNvPr id="270" name="Group 49"/>
            <p:cNvGrpSpPr/>
            <p:nvPr/>
          </p:nvGrpSpPr>
          <p:grpSpPr>
            <a:xfrm>
              <a:off x="76320" y="3274920"/>
              <a:ext cx="8961480" cy="2551320"/>
              <a:chOff x="76320" y="3274920"/>
              <a:chExt cx="8961480" cy="25513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4920"/>
                <a:ext cx="8961480" cy="2551320"/>
                <a:chOff x="76320" y="3274920"/>
                <a:chExt cx="8961480" cy="25513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4920"/>
                  <a:ext cx="8961480" cy="2551320"/>
                  <a:chOff x="76320" y="3274920"/>
                  <a:chExt cx="8961480" cy="2551320"/>
                </a:xfrm>
              </p:grpSpPr>
              <p:grpSp>
                <p:nvGrpSpPr>
                  <p:cNvPr id="273" name="Group 1"/>
                  <p:cNvGrpSpPr/>
                  <p:nvPr/>
                </p:nvGrpSpPr>
                <p:grpSpPr>
                  <a:xfrm>
                    <a:off x="76320" y="3274920"/>
                    <a:ext cx="8961480" cy="2551320"/>
                    <a:chOff x="76320" y="3274920"/>
                    <a:chExt cx="8961480" cy="2551320"/>
                  </a:xfrm>
                </p:grpSpPr>
                <p:sp>
                  <p:nvSpPr>
                    <p:cNvPr id="274" name="AutoShape 3"/>
                    <p:cNvSpPr/>
                    <p:nvPr/>
                  </p:nvSpPr>
                  <p:spPr>
                    <a:xfrm>
                      <a:off x="76320" y="327492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5" name="AutoShape 8"/>
                    <p:cNvSpPr/>
                    <p:nvPr/>
                  </p:nvSpPr>
                  <p:spPr>
                    <a:xfrm>
                      <a:off x="3789360" y="53161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6" name="Group 32"/>
                  <p:cNvGrpSpPr/>
                  <p:nvPr/>
                </p:nvGrpSpPr>
                <p:grpSpPr>
                  <a:xfrm>
                    <a:off x="304920" y="4070520"/>
                    <a:ext cx="4030560" cy="963360"/>
                    <a:chOff x="304920" y="4070520"/>
                    <a:chExt cx="4030560" cy="963360"/>
                  </a:xfrm>
                </p:grpSpPr>
                <p:grpSp>
                  <p:nvGrpSpPr>
                    <p:cNvPr id="277" name="Group 29"/>
                    <p:cNvGrpSpPr/>
                    <p:nvPr/>
                  </p:nvGrpSpPr>
                  <p:grpSpPr>
                    <a:xfrm>
                      <a:off x="304920" y="4070520"/>
                      <a:ext cx="4030560" cy="523800"/>
                      <a:chOff x="304920" y="4070520"/>
                      <a:chExt cx="4030560" cy="523800"/>
                    </a:xfrm>
                  </p:grpSpPr>
                  <p:sp>
                    <p:nvSpPr>
                      <p:cNvPr id="278" name="AutoShape 11"/>
                      <p:cNvSpPr/>
                      <p:nvPr/>
                    </p:nvSpPr>
                    <p:spPr>
                      <a:xfrm>
                        <a:off x="304920" y="407052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79" name="Group 28"/>
                      <p:cNvGrpSpPr/>
                      <p:nvPr/>
                    </p:nvGrpSpPr>
                    <p:grpSpPr>
                      <a:xfrm>
                        <a:off x="449280" y="4169880"/>
                        <a:ext cx="3741840" cy="293400"/>
                        <a:chOff x="449280" y="4169880"/>
                        <a:chExt cx="3741840" cy="293400"/>
                      </a:xfrm>
                    </p:grpSpPr>
                    <p:sp>
                      <p:nvSpPr>
                        <p:cNvPr id="280" name="AutoShape 12"/>
                        <p:cNvSpPr/>
                        <p:nvPr/>
                      </p:nvSpPr>
                      <p:spPr>
                        <a:xfrm>
                          <a:off x="449280" y="416988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1" name="AutoShape 15"/>
                        <p:cNvSpPr/>
                        <p:nvPr/>
                      </p:nvSpPr>
                      <p:spPr>
                        <a:xfrm>
                          <a:off x="2362320" y="416988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2" name="AutoShape 6"/>
                    <p:cNvSpPr/>
                    <p:nvPr/>
                  </p:nvSpPr>
                  <p:spPr>
                    <a:xfrm>
                      <a:off x="122076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83" name="Group 2"/>
                  <p:cNvGrpSpPr/>
                  <p:nvPr/>
                </p:nvGrpSpPr>
                <p:grpSpPr>
                  <a:xfrm>
                    <a:off x="4419720" y="4070520"/>
                    <a:ext cx="4411440" cy="963360"/>
                    <a:chOff x="4419720" y="4070520"/>
                    <a:chExt cx="4411440" cy="963360"/>
                  </a:xfrm>
                </p:grpSpPr>
                <p:grpSp>
                  <p:nvGrpSpPr>
                    <p:cNvPr id="284" name="Group 31"/>
                    <p:cNvGrpSpPr/>
                    <p:nvPr/>
                  </p:nvGrpSpPr>
                  <p:grpSpPr>
                    <a:xfrm>
                      <a:off x="4419720" y="4070520"/>
                      <a:ext cx="4411440" cy="523800"/>
                      <a:chOff x="4419720" y="4070520"/>
                      <a:chExt cx="4411440" cy="523800"/>
                    </a:xfrm>
                  </p:grpSpPr>
                  <p:sp>
                    <p:nvSpPr>
                      <p:cNvPr id="285" name="AutoShape 11"/>
                      <p:cNvSpPr/>
                      <p:nvPr/>
                    </p:nvSpPr>
                    <p:spPr>
                      <a:xfrm>
                        <a:off x="4419720" y="407052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86" name="Group 30"/>
                      <p:cNvGrpSpPr/>
                      <p:nvPr/>
                    </p:nvGrpSpPr>
                    <p:grpSpPr>
                      <a:xfrm>
                        <a:off x="4556160" y="4145040"/>
                        <a:ext cx="4275000" cy="335160"/>
                        <a:chOff x="4556160" y="4145040"/>
                        <a:chExt cx="4275000" cy="335160"/>
                      </a:xfrm>
                    </p:grpSpPr>
                    <p:sp>
                      <p:nvSpPr>
                        <p:cNvPr id="287" name="AutoShape 12"/>
                        <p:cNvSpPr/>
                        <p:nvPr/>
                      </p:nvSpPr>
                      <p:spPr>
                        <a:xfrm>
                          <a:off x="4556160" y="414504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8" name="AutoShape 15"/>
                        <p:cNvSpPr/>
                        <p:nvPr/>
                      </p:nvSpPr>
                      <p:spPr>
                        <a:xfrm>
                          <a:off x="6850080" y="414504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9" name="AutoShape 6"/>
                    <p:cNvSpPr/>
                    <p:nvPr/>
                  </p:nvSpPr>
                  <p:spPr>
                    <a:xfrm>
                      <a:off x="571644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290" name="Oval 25"/>
                <p:cNvSpPr/>
                <p:nvPr/>
              </p:nvSpPr>
              <p:spPr>
                <a:xfrm>
                  <a:off x="380880" y="410040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91" name="Oval 26"/>
                <p:cNvSpPr/>
                <p:nvPr/>
              </p:nvSpPr>
              <p:spPr>
                <a:xfrm>
                  <a:off x="4495680" y="414648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2" name="Group 48"/>
              <p:cNvGrpSpPr/>
              <p:nvPr/>
            </p:nvGrpSpPr>
            <p:grpSpPr>
              <a:xfrm>
                <a:off x="1409400" y="3429000"/>
                <a:ext cx="4264200" cy="704880"/>
                <a:chOff x="1409400" y="3429000"/>
                <a:chExt cx="4264200" cy="704880"/>
              </a:xfrm>
            </p:grpSpPr>
            <p:cxnSp>
              <p:nvCxnSpPr>
                <p:cNvPr id="293" name="Curved Connector 10"/>
                <p:cNvCxnSpPr>
                  <a:stCxn id="290" idx="0"/>
                  <a:endCxn id="294" idx="1"/>
                </p:cNvCxnSpPr>
                <p:nvPr/>
              </p:nvCxnSpPr>
              <p:spPr>
                <a:xfrm flipH="1" flipV="1" rot="5400000">
                  <a:off x="1937160" y="305280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294" name="AutoShape 15"/>
                <p:cNvSpPr/>
                <p:nvPr/>
              </p:nvSpPr>
              <p:spPr>
                <a:xfrm>
                  <a:off x="2971800" y="342900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295" name="Curved Connector 10"/>
                <p:cNvCxnSpPr>
                  <a:stCxn id="294" idx="3"/>
                  <a:endCxn id="291" idx="0"/>
                </p:cNvCxnSpPr>
                <p:nvPr/>
              </p:nvCxnSpPr>
              <p:spPr>
                <a:xfrm>
                  <a:off x="4800240" y="358092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296" name="AutoShape 15"/>
            <p:cNvSpPr/>
            <p:nvPr/>
          </p:nvSpPr>
          <p:spPr>
            <a:xfrm>
              <a:off x="7010280" y="4191120"/>
              <a:ext cx="167652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7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8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9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0" name="Curved Connector 9"/>
          <p:cNvCxnSpPr>
            <a:stCxn id="299" idx="1"/>
            <a:endCxn id="290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1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2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3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04" name="Group 42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5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7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8" name="AutoShape 45"/>
          <p:cNvCxnSpPr>
            <a:stCxn id="294" idx="0"/>
            <a:endCxn id="307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Rectangle 6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133"/>
          <p:cNvGrpSpPr/>
          <p:nvPr/>
        </p:nvGrpSpPr>
        <p:grpSpPr>
          <a:xfrm>
            <a:off x="76320" y="3595680"/>
            <a:ext cx="8961480" cy="2592360"/>
            <a:chOff x="76320" y="3595680"/>
            <a:chExt cx="8961480" cy="2592360"/>
          </a:xfrm>
        </p:grpSpPr>
        <p:grpSp>
          <p:nvGrpSpPr>
            <p:cNvPr id="312" name="Group 102"/>
            <p:cNvGrpSpPr/>
            <p:nvPr/>
          </p:nvGrpSpPr>
          <p:grpSpPr>
            <a:xfrm>
              <a:off x="76320" y="3595680"/>
              <a:ext cx="8961480" cy="2592360"/>
              <a:chOff x="76320" y="3595680"/>
              <a:chExt cx="8961480" cy="2592360"/>
            </a:xfrm>
          </p:grpSpPr>
          <p:grpSp>
            <p:nvGrpSpPr>
              <p:cNvPr id="313" name="Group 103"/>
              <p:cNvGrpSpPr/>
              <p:nvPr/>
            </p:nvGrpSpPr>
            <p:grpSpPr>
              <a:xfrm>
                <a:off x="76320" y="3595680"/>
                <a:ext cx="8961480" cy="2592360"/>
                <a:chOff x="76320" y="3595680"/>
                <a:chExt cx="8961480" cy="2592360"/>
              </a:xfrm>
            </p:grpSpPr>
            <p:grpSp>
              <p:nvGrpSpPr>
                <p:cNvPr id="314" name="Group 104"/>
                <p:cNvGrpSpPr/>
                <p:nvPr/>
              </p:nvGrpSpPr>
              <p:grpSpPr>
                <a:xfrm>
                  <a:off x="76320" y="3595680"/>
                  <a:ext cx="8961480" cy="2592360"/>
                  <a:chOff x="76320" y="3595680"/>
                  <a:chExt cx="8961480" cy="2592360"/>
                </a:xfrm>
              </p:grpSpPr>
              <p:grpSp>
                <p:nvGrpSpPr>
                  <p:cNvPr id="315" name="Group 1"/>
                  <p:cNvGrpSpPr/>
                  <p:nvPr/>
                </p:nvGrpSpPr>
                <p:grpSpPr>
                  <a:xfrm>
                    <a:off x="76320" y="3595680"/>
                    <a:ext cx="8961480" cy="2592360"/>
                    <a:chOff x="76320" y="3595680"/>
                    <a:chExt cx="8961480" cy="2592360"/>
                  </a:xfrm>
                </p:grpSpPr>
                <p:sp>
                  <p:nvSpPr>
                    <p:cNvPr id="316" name="AutoShape 3"/>
                    <p:cNvSpPr/>
                    <p:nvPr/>
                  </p:nvSpPr>
                  <p:spPr>
                    <a:xfrm>
                      <a:off x="76320" y="359568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7" name="AutoShape 8"/>
                    <p:cNvSpPr/>
                    <p:nvPr/>
                  </p:nvSpPr>
                  <p:spPr>
                    <a:xfrm>
                      <a:off x="3466440" y="56779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18" name="Group 32"/>
                  <p:cNvGrpSpPr/>
                  <p:nvPr/>
                </p:nvGrpSpPr>
                <p:grpSpPr>
                  <a:xfrm>
                    <a:off x="304920" y="4391280"/>
                    <a:ext cx="4030560" cy="963360"/>
                    <a:chOff x="304920" y="4391280"/>
                    <a:chExt cx="4030560" cy="963360"/>
                  </a:xfrm>
                </p:grpSpPr>
                <p:grpSp>
                  <p:nvGrpSpPr>
                    <p:cNvPr id="319" name="Group 29"/>
                    <p:cNvGrpSpPr/>
                    <p:nvPr/>
                  </p:nvGrpSpPr>
                  <p:grpSpPr>
                    <a:xfrm>
                      <a:off x="304920" y="4391280"/>
                      <a:ext cx="4030560" cy="523800"/>
                      <a:chOff x="304920" y="4391280"/>
                      <a:chExt cx="4030560" cy="523800"/>
                    </a:xfrm>
                  </p:grpSpPr>
                  <p:sp>
                    <p:nvSpPr>
                      <p:cNvPr id="320" name="AutoShape 11"/>
                      <p:cNvSpPr/>
                      <p:nvPr/>
                    </p:nvSpPr>
                    <p:spPr>
                      <a:xfrm>
                        <a:off x="304920" y="439128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1" name="Group 28"/>
                      <p:cNvGrpSpPr/>
                      <p:nvPr/>
                    </p:nvGrpSpPr>
                    <p:grpSpPr>
                      <a:xfrm>
                        <a:off x="449280" y="4490640"/>
                        <a:ext cx="3741840" cy="293400"/>
                        <a:chOff x="449280" y="4490640"/>
                        <a:chExt cx="3741840" cy="293400"/>
                      </a:xfrm>
                    </p:grpSpPr>
                    <p:sp>
                      <p:nvSpPr>
                        <p:cNvPr id="322" name="AutoShape 12"/>
                        <p:cNvSpPr/>
                        <p:nvPr/>
                      </p:nvSpPr>
                      <p:spPr>
                        <a:xfrm>
                          <a:off x="449280" y="449064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3" name="AutoShape 15"/>
                        <p:cNvSpPr/>
                        <p:nvPr/>
                      </p:nvSpPr>
                      <p:spPr>
                        <a:xfrm>
                          <a:off x="2362320" y="449064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4" name="AutoShape 6"/>
                    <p:cNvSpPr/>
                    <p:nvPr/>
                  </p:nvSpPr>
                  <p:spPr>
                    <a:xfrm>
                      <a:off x="122076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25" name="Group 2"/>
                  <p:cNvGrpSpPr/>
                  <p:nvPr/>
                </p:nvGrpSpPr>
                <p:grpSpPr>
                  <a:xfrm>
                    <a:off x="4419720" y="4391280"/>
                    <a:ext cx="4411440" cy="963360"/>
                    <a:chOff x="4419720" y="4391280"/>
                    <a:chExt cx="4411440" cy="963360"/>
                  </a:xfrm>
                </p:grpSpPr>
                <p:grpSp>
                  <p:nvGrpSpPr>
                    <p:cNvPr id="326" name="Group 31"/>
                    <p:cNvGrpSpPr/>
                    <p:nvPr/>
                  </p:nvGrpSpPr>
                  <p:grpSpPr>
                    <a:xfrm>
                      <a:off x="4419720" y="4391280"/>
                      <a:ext cx="4411440" cy="523800"/>
                      <a:chOff x="4419720" y="4391280"/>
                      <a:chExt cx="4411440" cy="523800"/>
                    </a:xfrm>
                  </p:grpSpPr>
                  <p:sp>
                    <p:nvSpPr>
                      <p:cNvPr id="327" name="AutoShape 11"/>
                      <p:cNvSpPr/>
                      <p:nvPr/>
                    </p:nvSpPr>
                    <p:spPr>
                      <a:xfrm>
                        <a:off x="4419720" y="439128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8" name="Group 30"/>
                      <p:cNvGrpSpPr/>
                      <p:nvPr/>
                    </p:nvGrpSpPr>
                    <p:grpSpPr>
                      <a:xfrm>
                        <a:off x="4556160" y="4465800"/>
                        <a:ext cx="4275000" cy="335160"/>
                        <a:chOff x="4556160" y="4465800"/>
                        <a:chExt cx="4275000" cy="335160"/>
                      </a:xfrm>
                    </p:grpSpPr>
                    <p:sp>
                      <p:nvSpPr>
                        <p:cNvPr id="329" name="AutoShape 12"/>
                        <p:cNvSpPr/>
                        <p:nvPr/>
                      </p:nvSpPr>
                      <p:spPr>
                        <a:xfrm>
                          <a:off x="4556160" y="446580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30" name="AutoShape 15"/>
                        <p:cNvSpPr/>
                        <p:nvPr/>
                      </p:nvSpPr>
                      <p:spPr>
                        <a:xfrm>
                          <a:off x="6850080" y="446580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1" name="AutoShape 6"/>
                    <p:cNvSpPr/>
                    <p:nvPr/>
                  </p:nvSpPr>
                  <p:spPr>
                    <a:xfrm>
                      <a:off x="571644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332" name="Oval 25"/>
                <p:cNvSpPr/>
                <p:nvPr/>
              </p:nvSpPr>
              <p:spPr>
                <a:xfrm>
                  <a:off x="380880" y="44211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33" name="Oval 26"/>
                <p:cNvSpPr/>
                <p:nvPr/>
              </p:nvSpPr>
              <p:spPr>
                <a:xfrm>
                  <a:off x="4495680" y="446724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4" name="Group 124"/>
              <p:cNvGrpSpPr/>
              <p:nvPr/>
            </p:nvGrpSpPr>
            <p:grpSpPr>
              <a:xfrm>
                <a:off x="1409400" y="3749760"/>
                <a:ext cx="4264200" cy="704880"/>
                <a:chOff x="1409400" y="3749760"/>
                <a:chExt cx="4264200" cy="704880"/>
              </a:xfrm>
            </p:grpSpPr>
            <p:cxnSp>
              <p:nvCxnSpPr>
                <p:cNvPr id="335" name="Curved Connector 10"/>
                <p:cNvCxnSpPr>
                  <a:stCxn id="332" idx="0"/>
                  <a:endCxn id="336" idx="1"/>
                </p:cNvCxnSpPr>
                <p:nvPr/>
              </p:nvCxnSpPr>
              <p:spPr>
                <a:xfrm flipH="1" flipV="1" rot="5400000">
                  <a:off x="1937160" y="33735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36" name="AutoShape 15"/>
                <p:cNvSpPr/>
                <p:nvPr/>
              </p:nvSpPr>
              <p:spPr>
                <a:xfrm>
                  <a:off x="2971800" y="37497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37" name="Curved Connector 10"/>
                <p:cNvCxnSpPr>
                  <a:stCxn id="336" idx="3"/>
                  <a:endCxn id="333" idx="0"/>
                </p:cNvCxnSpPr>
                <p:nvPr/>
              </p:nvCxnSpPr>
              <p:spPr>
                <a:xfrm>
                  <a:off x="4800240" y="39016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38" name="AutoShape 15"/>
            <p:cNvSpPr/>
            <p:nvPr/>
          </p:nvSpPr>
          <p:spPr>
            <a:xfrm>
              <a:off x="6858000" y="44974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AutoShape 15"/>
            <p:cNvSpPr/>
            <p:nvPr/>
          </p:nvSpPr>
          <p:spPr>
            <a:xfrm>
              <a:off x="2438280" y="449568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0" name="Group 3"/>
          <p:cNvGrpSpPr/>
          <p:nvPr/>
        </p:nvGrpSpPr>
        <p:grpSpPr>
          <a:xfrm>
            <a:off x="1236600" y="1766880"/>
            <a:ext cx="6705720" cy="847800"/>
            <a:chOff x="1236600" y="1766880"/>
            <a:chExt cx="6705720" cy="847800"/>
          </a:xfrm>
        </p:grpSpPr>
        <p:sp>
          <p:nvSpPr>
            <p:cNvPr id="341" name="AutoShape 5"/>
            <p:cNvSpPr/>
            <p:nvPr/>
          </p:nvSpPr>
          <p:spPr>
            <a:xfrm>
              <a:off x="3321720" y="223740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AutoShape 23"/>
            <p:cNvSpPr/>
            <p:nvPr/>
          </p:nvSpPr>
          <p:spPr>
            <a:xfrm>
              <a:off x="1236600" y="1766880"/>
              <a:ext cx="6705720" cy="478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K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 (K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3" name="AutoShape 23"/>
          <p:cNvSpPr/>
          <p:nvPr/>
        </p:nvSpPr>
        <p:spPr>
          <a:xfrm>
            <a:off x="3732840" y="1142640"/>
            <a:ext cx="171540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44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45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8" name="Curved Connector 9"/>
          <p:cNvCxnSpPr>
            <a:stCxn id="342" idx="3"/>
            <a:endCxn id="333" idx="0"/>
          </p:cNvCxnSpPr>
          <p:nvPr/>
        </p:nvCxnSpPr>
        <p:spPr>
          <a:xfrm flipH="1">
            <a:off x="5673240" y="2006280"/>
            <a:ext cx="2269440" cy="2461320"/>
          </a:xfrm>
          <a:prstGeom prst="curvedConnector5">
            <a:avLst>
              <a:gd name="adj1" fmla="val -10058"/>
              <a:gd name="adj2" fmla="val 27428"/>
              <a:gd name="adj3" fmla="val -10058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cxnSp>
        <p:nvCxnSpPr>
          <p:cNvPr id="349" name="AutoShape 128"/>
          <p:cNvCxnSpPr>
            <a:stCxn id="336" idx="0"/>
          </p:cNvCxnSpPr>
          <p:nvPr/>
        </p:nvCxnSpPr>
        <p:spPr>
          <a:xfrm flipV="1">
            <a:off x="3886200" y="3276360"/>
            <a:ext cx="838800" cy="47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Group 38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5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53" name="Rectangle 1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2_Indirectly_Associateing_Parameters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KHz   Parameter Value :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1_str: top_mod.param_owner1.clk_freq_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2_str : top_mod.param_owner2.clock_speed_K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ConversionFactor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KHz' of OWNER (2) to 12 (K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34:08Z</dcterms:modified>
  <cp:revision>30</cp:revision>
  <dc:subject/>
  <dc:title>ex12_In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34:07Z</vt:lpwstr>
  </property>
  <property fmtid="{D5CDD505-2E9C-101B-9397-08002B2CF9AE}" pid="5" name="TitusGUID">
    <vt:lpwstr>2047365e-e2e2-4720-a50e-ebed3c959e5e</vt:lpwstr>
  </property>
</Properties>
</file>