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A7010-D445-4CEE-BA2D-305820BFA7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6E749-3473-4925-87CC-B14624681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BF801-599E-4A94-9D22-FA533FBC0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2C0F3-8BEA-4394-AD59-4F2931728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74421-479B-4C7A-BF38-B9A572928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60B8C-F308-4681-9A96-817A27634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818A1-88A8-4612-BCEF-8CE56B229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92124-23E3-44ED-81AE-2B16B8FAAE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B218B-2FEF-44EB-B3F7-7C1DECEA27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1D95D-6B0E-46AD-B356-C8EA55C591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0C17A-C5B1-49F4-B490-3207BB420A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F3CE9-B575-43AE-81D0-1453E60BA6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3DD48-93D8-425F-A5A2-1DC035D586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8CC45-3BCE-4D08-A6C5-74A92E2A21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91231-5065-41D1-8E90-9166A707DA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B6403-905A-4A69-A3AE-9784BAC480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CC4A0-E60A-4313-A432-4A1EB31764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813D8-FAD6-4517-858C-F3E029551D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79304-9FF3-476A-8C4E-798E2CE711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68B08-8AFA-4B54-8A76-C448E45BD4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arch Predicate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OSCI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nal Podd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vember 201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Search Predicat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wner module simple_ip has CCI parameters of different data typ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module search_ip performs various searches and reports the matching paramete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is example, module search_ip performs the following parameter search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3960" indent="-248040" algn="just">
              <a:spcBef>
                <a:spcPts val="499"/>
              </a:spcBef>
              <a:buClr>
                <a:srgbClr val="0000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er value ty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3960" indent="-248040" algn="just">
              <a:spcBef>
                <a:spcPts val="499"/>
              </a:spcBef>
              <a:buClr>
                <a:srgbClr val="0000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ing value ty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3960" indent="-248040" algn="just">
              <a:spcBef>
                <a:spcPts val="499"/>
              </a:spcBef>
              <a:buClr>
                <a:srgbClr val="0000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value greater than or equal to 3 and smaller than 8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3960" indent="-248040" algn="just">
              <a:spcBef>
                <a:spcPts val="499"/>
              </a:spcBef>
              <a:buClr>
                <a:srgbClr val="0000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 name contains the character ‘t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br>
              <a:rPr sz="3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CI parameters representing basic data types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1787400" y="1322280"/>
            <a:ext cx="1989360" cy="4366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3" name="Straight Arrow Connector 16"/>
          <p:cNvCxnSpPr>
            <a:stCxn id="92" idx="2"/>
          </p:cNvCxnSpPr>
          <p:nvPr/>
        </p:nvCxnSpPr>
        <p:spPr>
          <a:xfrm flipH="1">
            <a:off x="2775960" y="1758600"/>
            <a:ext cx="684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4" name="Folded Corner 41"/>
          <p:cNvSpPr/>
          <p:nvPr/>
        </p:nvSpPr>
        <p:spPr>
          <a:xfrm>
            <a:off x="3062160" y="2081160"/>
            <a:ext cx="3048120" cy="157644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bool&gt; bool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ci_param&lt;char&gt; char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unsigned char&gt; uchar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int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unsigned int&gt; uint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cci_param&lt;float&gt; float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ci_param&lt;double&gt; double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std::string&gt; string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ounded Rectangular Callout 44"/>
          <p:cNvSpPr/>
          <p:nvPr/>
        </p:nvSpPr>
        <p:spPr>
          <a:xfrm>
            <a:off x="449280" y="5342040"/>
            <a:ext cx="2173320" cy="58896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CCI parameter ‘Owner’ module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br>
              <a:rPr sz="3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The search_ip module which search sim_ip’s parameter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13"/>
          <p:cNvSpPr/>
          <p:nvPr/>
        </p:nvSpPr>
        <p:spPr>
          <a:xfrm>
            <a:off x="1787400" y="1143000"/>
            <a:ext cx="1989360" cy="4046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arch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8" name="Straight Arrow Connector 16"/>
          <p:cNvCxnSpPr>
            <a:stCxn id="97" idx="2"/>
          </p:cNvCxnSpPr>
          <p:nvPr/>
        </p:nvCxnSpPr>
        <p:spPr>
          <a:xfrm flipH="1">
            <a:off x="2775960" y="1547640"/>
            <a:ext cx="6840" cy="4384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9" name="Folded Corner 41"/>
          <p:cNvSpPr/>
          <p:nvPr/>
        </p:nvSpPr>
        <p:spPr>
          <a:xfrm>
            <a:off x="3062160" y="2792520"/>
            <a:ext cx="5753160" cy="41580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Integers only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bool integer_type_predicate(const cci_param_untyped_handle handle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Rounded Rectangular Callout 44"/>
          <p:cNvSpPr/>
          <p:nvPr/>
        </p:nvSpPr>
        <p:spPr>
          <a:xfrm>
            <a:off x="449280" y="5342040"/>
            <a:ext cx="2173320" cy="58896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Searches simple_ip’s parameter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Folded Corner 41"/>
          <p:cNvSpPr/>
          <p:nvPr/>
        </p:nvSpPr>
        <p:spPr>
          <a:xfrm>
            <a:off x="3062160" y="3514680"/>
            <a:ext cx="5753160" cy="41580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tring only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bool string_type_predicate(const cci_param_untyped_handle handle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Folded Corner 41"/>
          <p:cNvSpPr/>
          <p:nvPr/>
        </p:nvSpPr>
        <p:spPr>
          <a:xfrm>
            <a:off x="3062160" y="4210200"/>
            <a:ext cx="5753160" cy="56988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Numbers greater that or equal to 3 and smaller than 85 only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l value_in_range_predicate(const cci_param_untyped_handle handle, double greater_eq, double lower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Folded Corner 41"/>
          <p:cNvSpPr/>
          <p:nvPr/>
        </p:nvSpPr>
        <p:spPr>
          <a:xfrm>
            <a:off x="3062160" y="5067360"/>
            <a:ext cx="5753160" cy="56988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Parameter name contains at least ‘t’ only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l name_contains_character_predicate( const cci_param_untyped_handle handle, const char character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Folded Corner 41"/>
          <p:cNvSpPr/>
          <p:nvPr/>
        </p:nvSpPr>
        <p:spPr>
          <a:xfrm>
            <a:off x="3062160" y="2068560"/>
            <a:ext cx="5753160" cy="41580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Original List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plays the original list of parameters in simple_ip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ex22_Search_Predicate.log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80880" y="927000"/>
            <a:ext cx="868680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bool_param is 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char_param is 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uchar_param is U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int_param is -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uint_param is 0xfeedf00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float_param is 3.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double_param is 2.7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string_param is C++ Str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c_main: Begin Simulation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Original lis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bool_param = tru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char_param = 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double_param = 2.7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float_param = 3.14000010490417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int_param = -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string_param = "C++ String“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char_param = 8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int_param = 427700634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5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8088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Integers on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char_param = 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int_param = -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char_param = 8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int_param = 427700634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String on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string_param = "C++ String"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Numbers greater than or equal to 3 and smaller than 85 on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char_param = 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float_param = 3.14000010490417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Parameter name contains at least 't' on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float_param = 3.14000010490417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int_param = -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string_param = "C++ String"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int_param = 427700634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c_main: End Simulation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2-17T15:52:42Z</dcterms:modified>
  <cp:revision>184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5:52:42Z</vt:lpwstr>
  </property>
  <property fmtid="{D5CDD505-2E9C-101B-9397-08002B2CF9AE}" pid="5" name="TitusGUID">
    <vt:lpwstr>9e508fab-0d4d-42f6-bb4e-875dc6a2e392</vt:lpwstr>
  </property>
</Properties>
</file>