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0EF48-252C-49FA-9C6B-98E44164F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C02A2-D17A-4CE4-B70F-4884988F11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B29F2-BFAC-44DF-B85F-6F95F42136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A4026-31CB-4AEA-8FD5-D57C731AF5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8A55E-6156-46CE-A9CF-ECB0FCC562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27A26-F878-422F-84C3-7CF8B76F53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E4D83-D4E1-4C17-A935-11338B49DC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E0673-F02C-46A0-9EFF-6FF84E8317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46826-0E64-4B83-ACEF-6C2BD92382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C0DBF-C03C-40CD-95EB-2DA03E8965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E34AF-7380-4A7F-8EFB-70F127431B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EDEF4-9888-459D-9039-46A32D1DDC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E9D0E-7467-456A-9059-3F0809B739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97460-B2CA-4772-80CC-157AAC1CE9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0DC7D-531D-4B87-98AC-B5F381E593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9FDC3-F4B6-4776-9A3D-07B80535B4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D2A5B-738E-4B21-99F6-43C55E3C19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716E9-EC72-4A71-B451-E58674B10B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6AAA7-BE2C-426F-8FFC-1F65CBFC01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EFF3C-9A1C-4172-B378-8C5EC1FABD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67714-0F92-4B13-B5CA-39B5EE08B9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ADDB7-6F33-4CBD-A076-DC9F8DFE76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669D0-7C67-4372-8437-DCC7B7C7B7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C5AC7-A111-4C10-870D-DB25D2B4EA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F234A-5CA1-4672-8848-989A41A465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25A1D-795C-40F9-B104-D9AEC00852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E0829-7506-4DD0-9CCD-1B1F06BD59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6332E-CA85-47A4-A5A2-A10B19445F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07896-BB73-4297-8E09-7DF243F4FC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C1184-E0FF-4722-8866-636444E5A4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51C97-3E40-4A08-8990-7BA0FFC98C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A50B-6822-4924-B840-4D095EA2D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C723A-B0BF-4D3D-A93E-0800D8EEE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01C4-82E1-44CE-BFF1-D0437FD65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AF51-CF42-4210-811C-DFBCDC9DC3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F602-A027-4674-9525-8ACEF6CFA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A318A-F370-445E-9C82-4BF2B55F26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3D0B5-9F0C-4399-ABC9-357B4CC1B6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69328-6E84-46E1-979E-0D6524EC82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60F7E-0D95-4109-8802-6852C1E773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2282F-9889-4228-891C-C76E5CC638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73AFD-6EEE-420F-9F90-7749360267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D4E76-95FF-4941-B24D-FA3018066F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A40E1-B493-4B1E-A065-48872121C3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1BB67-C8D8-4E7D-BDD1-BF62098C71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DA514-3B90-4137-80B1-EF57B2DB8F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C9CCE-41FA-462C-9548-6CA05A7A69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C83CF-5167-4BBA-A533-B6A67CBE2A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8C0A9-2581-497A-AEFE-F52A3EC91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50961-E567-4F8E-ACF2-CEA465843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8600-2AFD-4A87-8511-C5CCAEAD7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4B4C7-6BB5-4324-8EAB-F25B33DBD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81ED-033E-4854-BEEC-B97BFC523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70EC-43AB-45F6-83D6-C82C5A76B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7B65-3893-441C-BE57-646F33F73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0A407-FC69-4AD7-8084-FBE8EBF01C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9B82F9EC-912C-46CE-8DE6-4009021FCB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733920" y="5181480"/>
            <a:ext cx="4572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earching and Directly Associating Parameter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Searching &amp; 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2403000" y="1227960"/>
            <a:ext cx="4374720" cy="986760"/>
            <a:chOff x="2403000" y="1227960"/>
            <a:chExt cx="4374720" cy="986760"/>
          </a:xfrm>
        </p:grpSpPr>
        <p:sp>
          <p:nvSpPr>
            <p:cNvPr id="188" name="AutoShape 23"/>
            <p:cNvSpPr/>
            <p:nvPr/>
          </p:nvSpPr>
          <p:spPr>
            <a:xfrm>
              <a:off x="2403000" y="1227960"/>
              <a:ext cx="437472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handles for owner modules’ parameters us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ion broke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373200" y="1843200"/>
              <a:ext cx="23616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447920" y="322272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447920" y="371016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9440" y="243540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1447920" y="3071880"/>
            <a:ext cx="6400800" cy="1366920"/>
            <a:chOff x="1447920" y="3071880"/>
            <a:chExt cx="6400800" cy="1366920"/>
          </a:xfrm>
        </p:grpSpPr>
        <p:sp>
          <p:nvSpPr>
            <p:cNvPr id="210" name="AutoShape 23"/>
            <p:cNvSpPr/>
            <p:nvPr/>
          </p:nvSpPr>
          <p:spPr>
            <a:xfrm>
              <a:off x="1447920" y="3071880"/>
              <a:ext cx="6400800" cy="9907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473640" y="4151520"/>
              <a:ext cx="1970640" cy="28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1763640" y="1248840"/>
            <a:ext cx="5770800" cy="950400"/>
            <a:chOff x="1763640" y="1248840"/>
            <a:chExt cx="5770800" cy="950400"/>
          </a:xfrm>
        </p:grpSpPr>
        <p:sp>
          <p:nvSpPr>
            <p:cNvPr id="214" name="AutoShape 23"/>
            <p:cNvSpPr/>
            <p:nvPr/>
          </p:nvSpPr>
          <p:spPr>
            <a:xfrm>
              <a:off x="1763640" y="1248840"/>
              <a:ext cx="577080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the handles of the owner modul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ci_parameters to respective cci_param_handle through the brok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277080" y="1895040"/>
              <a:ext cx="2362320" cy="3042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178720" y="2437560"/>
            <a:ext cx="478620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cci-parameters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 us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3474360" y="3283200"/>
            <a:ext cx="4252680" cy="520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rite it’s default value to the other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1676520" y="320976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start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s of 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40"/>
          <p:cNvGrpSpPr/>
          <p:nvPr/>
        </p:nvGrpSpPr>
        <p:grpSpPr>
          <a:xfrm>
            <a:off x="1630440" y="1184040"/>
            <a:ext cx="5731200" cy="749520"/>
            <a:chOff x="1630440" y="1184040"/>
            <a:chExt cx="5731200" cy="749520"/>
          </a:xfrm>
        </p:grpSpPr>
        <p:sp>
          <p:nvSpPr>
            <p:cNvPr id="241" name="AutoShape 5"/>
            <p:cNvSpPr/>
            <p:nvPr/>
          </p:nvSpPr>
          <p:spPr>
            <a:xfrm>
              <a:off x="3237840" y="1556640"/>
              <a:ext cx="2361960" cy="376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AutoShape 23"/>
            <p:cNvSpPr/>
            <p:nvPr/>
          </p:nvSpPr>
          <p:spPr>
            <a:xfrm>
              <a:off x="1630440" y="1184040"/>
              <a:ext cx="573120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initialized handles of parameters to by sync’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4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5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6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7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8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9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0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51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52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3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4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5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6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7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AutoShape 23"/>
          <p:cNvSpPr/>
          <p:nvPr/>
        </p:nvSpPr>
        <p:spPr>
          <a:xfrm>
            <a:off x="722160" y="3275280"/>
            <a:ext cx="78523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77880" y="2368440"/>
            <a:ext cx="7856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values of the paramet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 (cci::cci_param_handle  _param_handle_1, cci::cci_param_handle _param_handle_2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1" name="Curved Connector 10"/>
          <p:cNvCxnSpPr>
            <a:stCxn id="257" idx="0"/>
            <a:endCxn id="258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62" name="AutoShape 6"/>
          <p:cNvSpPr/>
          <p:nvPr/>
        </p:nvSpPr>
        <p:spPr>
          <a:xfrm>
            <a:off x="3735360" y="4105440"/>
            <a:ext cx="1827360" cy="16164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3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3" name="Curved Connector 10"/>
          <p:cNvCxnSpPr>
            <a:stCxn id="264" idx="4"/>
            <a:endCxn id="248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5" name="Group 33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6" name="AutoShape 15"/>
            <p:cNvSpPr/>
            <p:nvPr/>
          </p:nvSpPr>
          <p:spPr>
            <a:xfrm>
              <a:off x="6934320" y="464796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7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49"/>
          <p:cNvGrpSpPr/>
          <p:nvPr/>
        </p:nvGrpSpPr>
        <p:grpSpPr>
          <a:xfrm>
            <a:off x="76320" y="3276720"/>
            <a:ext cx="8961480" cy="2574720"/>
            <a:chOff x="76320" y="3276720"/>
            <a:chExt cx="8961480" cy="2574720"/>
          </a:xfrm>
        </p:grpSpPr>
        <p:grpSp>
          <p:nvGrpSpPr>
            <p:cNvPr id="270" name="Group 48"/>
            <p:cNvGrpSpPr/>
            <p:nvPr/>
          </p:nvGrpSpPr>
          <p:grpSpPr>
            <a:xfrm>
              <a:off x="76320" y="3276720"/>
              <a:ext cx="8961480" cy="2574720"/>
              <a:chOff x="76320" y="3276720"/>
              <a:chExt cx="8961480" cy="25747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6720"/>
                <a:ext cx="8961480" cy="2574720"/>
                <a:chOff x="76320" y="3276720"/>
                <a:chExt cx="8961480" cy="25747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6720"/>
                  <a:ext cx="8961480" cy="2574720"/>
                  <a:chOff x="76320" y="3276720"/>
                  <a:chExt cx="8961480" cy="2574720"/>
                </a:xfrm>
              </p:grpSpPr>
              <p:grpSp>
                <p:nvGrpSpPr>
                  <p:cNvPr id="273" name="Group 5"/>
                  <p:cNvGrpSpPr/>
                  <p:nvPr/>
                </p:nvGrpSpPr>
                <p:grpSpPr>
                  <a:xfrm>
                    <a:off x="76320" y="3276720"/>
                    <a:ext cx="8961480" cy="2574720"/>
                    <a:chOff x="76320" y="3276720"/>
                    <a:chExt cx="8961480" cy="2574720"/>
                  </a:xfrm>
                </p:grpSpPr>
                <p:grpSp>
                  <p:nvGrpSpPr>
                    <p:cNvPr id="274" name="Group 1"/>
                    <p:cNvGrpSpPr/>
                    <p:nvPr/>
                  </p:nvGrpSpPr>
                  <p:grpSpPr>
                    <a:xfrm>
                      <a:off x="76320" y="3276720"/>
                      <a:ext cx="8961480" cy="2574720"/>
                      <a:chOff x="76320" y="3276720"/>
                      <a:chExt cx="8961480" cy="2574720"/>
                    </a:xfrm>
                  </p:grpSpPr>
                  <p:sp>
                    <p:nvSpPr>
                      <p:cNvPr id="275" name="AutoShape 3"/>
                      <p:cNvSpPr/>
                      <p:nvPr/>
                    </p:nvSpPr>
                    <p:spPr>
                      <a:xfrm>
                        <a:off x="76320" y="3276720"/>
                        <a:ext cx="8961480" cy="2041560"/>
                      </a:xfrm>
                      <a:prstGeom prst="roundRect">
                        <a:avLst>
                          <a:gd name="adj" fmla="val 134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76" name="AutoShape 8"/>
                      <p:cNvSpPr/>
                      <p:nvPr/>
                    </p:nvSpPr>
                    <p:spPr>
                      <a:xfrm>
                        <a:off x="3961080" y="5341320"/>
                        <a:ext cx="1601640" cy="51012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Top_Module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77" name="Group 32"/>
                    <p:cNvGrpSpPr/>
                    <p:nvPr/>
                  </p:nvGrpSpPr>
                  <p:grpSpPr>
                    <a:xfrm>
                      <a:off x="304920" y="4070520"/>
                      <a:ext cx="4030560" cy="963360"/>
                      <a:chOff x="304920" y="4070520"/>
                      <a:chExt cx="4030560" cy="963360"/>
                    </a:xfrm>
                  </p:grpSpPr>
                  <p:grpSp>
                    <p:nvGrpSpPr>
                      <p:cNvPr id="278" name="Group 29"/>
                      <p:cNvGrpSpPr/>
                      <p:nvPr/>
                    </p:nvGrpSpPr>
                    <p:grpSpPr>
                      <a:xfrm>
                        <a:off x="304920" y="4070520"/>
                        <a:ext cx="4030560" cy="523800"/>
                        <a:chOff x="304920" y="4070520"/>
                        <a:chExt cx="4030560" cy="523800"/>
                      </a:xfrm>
                    </p:grpSpPr>
                    <p:sp>
                      <p:nvSpPr>
                        <p:cNvPr id="279" name="AutoShape 11"/>
                        <p:cNvSpPr/>
                        <p:nvPr/>
                      </p:nvSpPr>
                      <p:spPr>
                        <a:xfrm>
                          <a:off x="304920" y="4070520"/>
                          <a:ext cx="403056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0" name="Group 28"/>
                        <p:cNvGrpSpPr/>
                        <p:nvPr/>
                      </p:nvGrpSpPr>
                      <p:grpSpPr>
                        <a:xfrm>
                          <a:off x="449280" y="4169880"/>
                          <a:ext cx="3741840" cy="293400"/>
                          <a:chOff x="449280" y="4169880"/>
                          <a:chExt cx="3741840" cy="293400"/>
                        </a:xfrm>
                      </p:grpSpPr>
                      <p:sp>
                        <p:nvSpPr>
                          <p:cNvPr id="281" name="AutoShape 12"/>
                          <p:cNvSpPr/>
                          <p:nvPr/>
                        </p:nvSpPr>
                        <p:spPr>
                          <a:xfrm>
                            <a:off x="449280" y="4169880"/>
                            <a:ext cx="198936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k_freq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2" name="AutoShape 15"/>
                          <p:cNvSpPr/>
                          <p:nvPr/>
                        </p:nvSpPr>
                        <p:spPr>
                          <a:xfrm>
                            <a:off x="2362320" y="4169880"/>
                            <a:ext cx="182880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 fontScale="96000"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1000 (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83" name="AutoShape 6"/>
                      <p:cNvSpPr/>
                      <p:nvPr/>
                    </p:nvSpPr>
                    <p:spPr>
                      <a:xfrm>
                        <a:off x="122076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1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84" name="Group 2"/>
                    <p:cNvGrpSpPr/>
                    <p:nvPr/>
                  </p:nvGrpSpPr>
                  <p:grpSpPr>
                    <a:xfrm>
                      <a:off x="4419720" y="4070520"/>
                      <a:ext cx="4411440" cy="963360"/>
                      <a:chOff x="4419720" y="4070520"/>
                      <a:chExt cx="4411440" cy="963360"/>
                    </a:xfrm>
                  </p:grpSpPr>
                  <p:grpSp>
                    <p:nvGrpSpPr>
                      <p:cNvPr id="285" name="Group 31"/>
                      <p:cNvGrpSpPr/>
                      <p:nvPr/>
                    </p:nvGrpSpPr>
                    <p:grpSpPr>
                      <a:xfrm>
                        <a:off x="4419720" y="4070520"/>
                        <a:ext cx="4411440" cy="523800"/>
                        <a:chOff x="4419720" y="4070520"/>
                        <a:chExt cx="4411440" cy="523800"/>
                      </a:xfrm>
                    </p:grpSpPr>
                    <p:sp>
                      <p:nvSpPr>
                        <p:cNvPr id="286" name="AutoShape 11"/>
                        <p:cNvSpPr/>
                        <p:nvPr/>
                      </p:nvSpPr>
                      <p:spPr>
                        <a:xfrm>
                          <a:off x="4419720" y="4070520"/>
                          <a:ext cx="441144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7" name="Group 30"/>
                        <p:cNvGrpSpPr/>
                        <p:nvPr/>
                      </p:nvGrpSpPr>
                      <p:grpSpPr>
                        <a:xfrm>
                          <a:off x="4556160" y="4145040"/>
                          <a:ext cx="4275000" cy="335160"/>
                          <a:chOff x="4556160" y="4145040"/>
                          <a:chExt cx="4275000" cy="335160"/>
                        </a:xfrm>
                      </p:grpSpPr>
                      <p:sp>
                        <p:nvSpPr>
                          <p:cNvPr id="288" name="AutoShape 12"/>
                          <p:cNvSpPr/>
                          <p:nvPr/>
                        </p:nvSpPr>
                        <p:spPr>
                          <a:xfrm>
                            <a:off x="4556160" y="4145040"/>
                            <a:ext cx="237816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ock_speed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9" name="AutoShape 15"/>
                          <p:cNvSpPr/>
                          <p:nvPr/>
                        </p:nvSpPr>
                        <p:spPr>
                          <a:xfrm>
                            <a:off x="6850080" y="4145040"/>
                            <a:ext cx="198108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2 (K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90" name="AutoShape 6"/>
                      <p:cNvSpPr/>
                      <p:nvPr/>
                    </p:nvSpPr>
                    <p:spPr>
                      <a:xfrm>
                        <a:off x="571644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2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291" name="Oval 26"/>
                  <p:cNvSpPr/>
                  <p:nvPr/>
                </p:nvSpPr>
                <p:spPr>
                  <a:xfrm>
                    <a:off x="4495680" y="4130640"/>
                    <a:ext cx="2354400" cy="3650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2" name="AutoShape 15"/>
                <p:cNvSpPr/>
                <p:nvPr/>
              </p:nvSpPr>
              <p:spPr>
                <a:xfrm>
                  <a:off x="7010280" y="4191120"/>
                  <a:ext cx="167652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Old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3" name="Oval 25"/>
              <p:cNvSpPr/>
              <p:nvPr/>
            </p:nvSpPr>
            <p:spPr>
              <a:xfrm>
                <a:off x="380880" y="4100400"/>
                <a:ext cx="2057400" cy="4413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94" name="Group 25"/>
            <p:cNvGrpSpPr/>
            <p:nvPr/>
          </p:nvGrpSpPr>
          <p:grpSpPr>
            <a:xfrm>
              <a:off x="1409400" y="3429000"/>
              <a:ext cx="4264200" cy="704880"/>
              <a:chOff x="1409400" y="3429000"/>
              <a:chExt cx="4264200" cy="704880"/>
            </a:xfrm>
          </p:grpSpPr>
          <p:cxnSp>
            <p:nvCxnSpPr>
              <p:cNvPr id="295" name="Curved Connector 10"/>
              <p:cNvCxnSpPr>
                <a:stCxn id="293" idx="0"/>
                <a:endCxn id="296" idx="1"/>
              </p:cNvCxnSpPr>
              <p:nvPr/>
            </p:nvCxnSpPr>
            <p:spPr>
              <a:xfrm flipH="1" flipV="1" rot="5400000">
                <a:off x="1937160" y="3052800"/>
                <a:ext cx="506880" cy="156276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  <p:sp>
            <p:nvSpPr>
              <p:cNvPr id="296" name="AutoShape 15"/>
              <p:cNvSpPr/>
              <p:nvPr/>
            </p:nvSpPr>
            <p:spPr>
              <a:xfrm>
                <a:off x="2971800" y="3429000"/>
                <a:ext cx="1828800" cy="303120"/>
              </a:xfrm>
              <a:prstGeom prst="roundRect">
                <a:avLst>
                  <a:gd name="adj" fmla="val 4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Bitstream Charter"/>
                  </a:rPr>
                  <a:t>param_value_sync</a:t>
                </a:r>
                <a:endParaRPr b="0" lang="en-US" sz="11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cxnSp>
            <p:nvCxnSpPr>
              <p:cNvPr id="297" name="Curved Connector 10"/>
              <p:cNvCxnSpPr>
                <a:stCxn id="296" idx="3"/>
                <a:endCxn id="291" idx="0"/>
              </p:cNvCxnSpPr>
              <p:nvPr/>
            </p:nvCxnSpPr>
            <p:spPr>
              <a:xfrm>
                <a:off x="4800240" y="3580920"/>
                <a:ext cx="873720" cy="55332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</p:grpSp>
      </p:grpSp>
      <p:grpSp>
        <p:nvGrpSpPr>
          <p:cNvPr id="298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9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1" name="Curved Connector 9"/>
          <p:cNvCxnSpPr>
            <a:stCxn id="300" idx="1"/>
            <a:endCxn id="293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2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3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5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6" name="AutoShape 42"/>
          <p:cNvCxnSpPr>
            <a:stCxn id="296" idx="0"/>
            <a:endCxn id="305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7" name="Group 15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8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Rectangle 5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23"/>
          <p:cNvGrpSpPr/>
          <p:nvPr/>
        </p:nvGrpSpPr>
        <p:grpSpPr>
          <a:xfrm>
            <a:off x="76320" y="3581280"/>
            <a:ext cx="8961480" cy="2574720"/>
            <a:chOff x="76320" y="3581280"/>
            <a:chExt cx="8961480" cy="2574720"/>
          </a:xfrm>
        </p:grpSpPr>
        <p:grpSp>
          <p:nvGrpSpPr>
            <p:cNvPr id="313" name="Group 92"/>
            <p:cNvGrpSpPr/>
            <p:nvPr/>
          </p:nvGrpSpPr>
          <p:grpSpPr>
            <a:xfrm>
              <a:off x="76320" y="3581280"/>
              <a:ext cx="8961480" cy="2574720"/>
              <a:chOff x="76320" y="3581280"/>
              <a:chExt cx="8961480" cy="2574720"/>
            </a:xfrm>
          </p:grpSpPr>
          <p:grpSp>
            <p:nvGrpSpPr>
              <p:cNvPr id="314" name="Group 93"/>
              <p:cNvGrpSpPr/>
              <p:nvPr/>
            </p:nvGrpSpPr>
            <p:grpSpPr>
              <a:xfrm>
                <a:off x="76320" y="3581280"/>
                <a:ext cx="8961480" cy="2574720"/>
                <a:chOff x="76320" y="3581280"/>
                <a:chExt cx="8961480" cy="2574720"/>
              </a:xfrm>
            </p:grpSpPr>
            <p:grpSp>
              <p:nvGrpSpPr>
                <p:cNvPr id="315" name="Group 94"/>
                <p:cNvGrpSpPr/>
                <p:nvPr/>
              </p:nvGrpSpPr>
              <p:grpSpPr>
                <a:xfrm>
                  <a:off x="76320" y="3581280"/>
                  <a:ext cx="8961480" cy="2574720"/>
                  <a:chOff x="76320" y="3581280"/>
                  <a:chExt cx="8961480" cy="2574720"/>
                </a:xfrm>
              </p:grpSpPr>
              <p:grpSp>
                <p:nvGrpSpPr>
                  <p:cNvPr id="316" name="Group 95"/>
                  <p:cNvGrpSpPr/>
                  <p:nvPr/>
                </p:nvGrpSpPr>
                <p:grpSpPr>
                  <a:xfrm>
                    <a:off x="76320" y="3581280"/>
                    <a:ext cx="8961480" cy="2574720"/>
                    <a:chOff x="76320" y="3581280"/>
                    <a:chExt cx="8961480" cy="2574720"/>
                  </a:xfrm>
                </p:grpSpPr>
                <p:grpSp>
                  <p:nvGrpSpPr>
                    <p:cNvPr id="317" name="Group 96"/>
                    <p:cNvGrpSpPr/>
                    <p:nvPr/>
                  </p:nvGrpSpPr>
                  <p:grpSpPr>
                    <a:xfrm>
                      <a:off x="76320" y="3581280"/>
                      <a:ext cx="8961480" cy="2574720"/>
                      <a:chOff x="76320" y="3581280"/>
                      <a:chExt cx="8961480" cy="2574720"/>
                    </a:xfrm>
                  </p:grpSpPr>
                  <p:grpSp>
                    <p:nvGrpSpPr>
                      <p:cNvPr id="318" name="Group 1"/>
                      <p:cNvGrpSpPr/>
                      <p:nvPr/>
                    </p:nvGrpSpPr>
                    <p:grpSpPr>
                      <a:xfrm>
                        <a:off x="76320" y="3581280"/>
                        <a:ext cx="8961480" cy="2574720"/>
                        <a:chOff x="76320" y="3581280"/>
                        <a:chExt cx="8961480" cy="2574720"/>
                      </a:xfrm>
                    </p:grpSpPr>
                    <p:sp>
                      <p:nvSpPr>
                        <p:cNvPr id="319" name="AutoShape 3"/>
                        <p:cNvSpPr/>
                        <p:nvPr/>
                      </p:nvSpPr>
                      <p:spPr>
                        <a:xfrm>
                          <a:off x="76320" y="3581280"/>
                          <a:ext cx="8961480" cy="2041560"/>
                        </a:xfrm>
                        <a:prstGeom prst="roundRect">
                          <a:avLst>
                            <a:gd name="adj" fmla="val 134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0" name="AutoShape 8"/>
                        <p:cNvSpPr/>
                        <p:nvPr/>
                      </p:nvSpPr>
                      <p:spPr>
                        <a:xfrm>
                          <a:off x="3961080" y="5645880"/>
                          <a:ext cx="1601640" cy="51012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Top_Module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1" name="Group 32"/>
                      <p:cNvGrpSpPr/>
                      <p:nvPr/>
                    </p:nvGrpSpPr>
                    <p:grpSpPr>
                      <a:xfrm>
                        <a:off x="304920" y="4375080"/>
                        <a:ext cx="4030560" cy="963360"/>
                        <a:chOff x="304920" y="4375080"/>
                        <a:chExt cx="4030560" cy="963360"/>
                      </a:xfrm>
                    </p:grpSpPr>
                    <p:grpSp>
                      <p:nvGrpSpPr>
                        <p:cNvPr id="322" name="Group 29"/>
                        <p:cNvGrpSpPr/>
                        <p:nvPr/>
                      </p:nvGrpSpPr>
                      <p:grpSpPr>
                        <a:xfrm>
                          <a:off x="304920" y="4375080"/>
                          <a:ext cx="4030560" cy="523800"/>
                          <a:chOff x="304920" y="4375080"/>
                          <a:chExt cx="4030560" cy="523800"/>
                        </a:xfrm>
                      </p:grpSpPr>
                      <p:sp>
                        <p:nvSpPr>
                          <p:cNvPr id="323" name="AutoShape 11"/>
                          <p:cNvSpPr/>
                          <p:nvPr/>
                        </p:nvSpPr>
                        <p:spPr>
                          <a:xfrm>
                            <a:off x="304920" y="4375080"/>
                            <a:ext cx="403056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24" name="Group 28"/>
                          <p:cNvGrpSpPr/>
                          <p:nvPr/>
                        </p:nvGrpSpPr>
                        <p:grpSpPr>
                          <a:xfrm>
                            <a:off x="449280" y="4474440"/>
                            <a:ext cx="3741840" cy="293400"/>
                            <a:chOff x="449280" y="4474440"/>
                            <a:chExt cx="3741840" cy="293400"/>
                          </a:xfrm>
                        </p:grpSpPr>
                        <p:sp>
                          <p:nvSpPr>
                            <p:cNvPr id="325" name="AutoShape 12"/>
                            <p:cNvSpPr/>
                            <p:nvPr/>
                          </p:nvSpPr>
                          <p:spPr>
                            <a:xfrm>
                              <a:off x="449280" y="4474440"/>
                              <a:ext cx="198936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k_freq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26" name="AutoShape 15"/>
                            <p:cNvSpPr/>
                            <p:nvPr/>
                          </p:nvSpPr>
                          <p:spPr>
                            <a:xfrm>
                              <a:off x="2362320" y="4474440"/>
                              <a:ext cx="182880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 fontScale="96000"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1000 (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27" name="AutoShape 6"/>
                        <p:cNvSpPr/>
                        <p:nvPr/>
                      </p:nvSpPr>
                      <p:spPr>
                        <a:xfrm>
                          <a:off x="122076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1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8" name="Group 2"/>
                      <p:cNvGrpSpPr/>
                      <p:nvPr/>
                    </p:nvGrpSpPr>
                    <p:grpSpPr>
                      <a:xfrm>
                        <a:off x="4419720" y="4375080"/>
                        <a:ext cx="4411440" cy="963360"/>
                        <a:chOff x="4419720" y="4375080"/>
                        <a:chExt cx="4411440" cy="963360"/>
                      </a:xfrm>
                    </p:grpSpPr>
                    <p:grpSp>
                      <p:nvGrpSpPr>
                        <p:cNvPr id="329" name="Group 31"/>
                        <p:cNvGrpSpPr/>
                        <p:nvPr/>
                      </p:nvGrpSpPr>
                      <p:grpSpPr>
                        <a:xfrm>
                          <a:off x="4419720" y="4375080"/>
                          <a:ext cx="4411440" cy="523800"/>
                          <a:chOff x="4419720" y="4375080"/>
                          <a:chExt cx="4411440" cy="523800"/>
                        </a:xfrm>
                      </p:grpSpPr>
                      <p:sp>
                        <p:nvSpPr>
                          <p:cNvPr id="330" name="AutoShape 11"/>
                          <p:cNvSpPr/>
                          <p:nvPr/>
                        </p:nvSpPr>
                        <p:spPr>
                          <a:xfrm>
                            <a:off x="4419720" y="4375080"/>
                            <a:ext cx="441144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31" name="Group 30"/>
                          <p:cNvGrpSpPr/>
                          <p:nvPr/>
                        </p:nvGrpSpPr>
                        <p:grpSpPr>
                          <a:xfrm>
                            <a:off x="4556160" y="4449600"/>
                            <a:ext cx="4275000" cy="335160"/>
                            <a:chOff x="4556160" y="4449600"/>
                            <a:chExt cx="4275000" cy="335160"/>
                          </a:xfrm>
                        </p:grpSpPr>
                        <p:sp>
                          <p:nvSpPr>
                            <p:cNvPr id="332" name="AutoShape 12"/>
                            <p:cNvSpPr/>
                            <p:nvPr/>
                          </p:nvSpPr>
                          <p:spPr>
                            <a:xfrm>
                              <a:off x="4556160" y="4449600"/>
                              <a:ext cx="237816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ock_speed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33" name="AutoShape 15"/>
                            <p:cNvSpPr/>
                            <p:nvPr/>
                          </p:nvSpPr>
                          <p:spPr>
                            <a:xfrm>
                              <a:off x="6850080" y="4449600"/>
                              <a:ext cx="198108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2 (K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34" name="AutoShape 6"/>
                        <p:cNvSpPr/>
                        <p:nvPr/>
                      </p:nvSpPr>
                      <p:spPr>
                        <a:xfrm>
                          <a:off x="571644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2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" name="Oval 26"/>
                    <p:cNvSpPr/>
                    <p:nvPr/>
                  </p:nvSpPr>
                  <p:spPr>
                    <a:xfrm>
                      <a:off x="4495680" y="4435200"/>
                      <a:ext cx="2354400" cy="365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36" name="AutoShape 15"/>
                  <p:cNvSpPr/>
                  <p:nvPr/>
                </p:nvSpPr>
                <p:spPr>
                  <a:xfrm>
                    <a:off x="7010280" y="4495680"/>
                    <a:ext cx="1676520" cy="303120"/>
                  </a:xfrm>
                  <a:prstGeom prst="roundRect">
                    <a:avLst>
                      <a:gd name="adj" fmla="val 463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Old Value :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 1000 (Hz)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7" name="Oval 25"/>
                <p:cNvSpPr/>
                <p:nvPr/>
              </p:nvSpPr>
              <p:spPr>
                <a:xfrm>
                  <a:off x="380880" y="44049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8" name="Group 117"/>
              <p:cNvGrpSpPr/>
              <p:nvPr/>
            </p:nvGrpSpPr>
            <p:grpSpPr>
              <a:xfrm>
                <a:off x="1409400" y="3733560"/>
                <a:ext cx="4264200" cy="704880"/>
                <a:chOff x="1409400" y="3733560"/>
                <a:chExt cx="4264200" cy="704880"/>
              </a:xfrm>
            </p:grpSpPr>
            <p:cxnSp>
              <p:nvCxnSpPr>
                <p:cNvPr id="339" name="Curved Connector 10"/>
                <p:cNvCxnSpPr>
                  <a:stCxn id="337" idx="0"/>
                  <a:endCxn id="340" idx="1"/>
                </p:cNvCxnSpPr>
                <p:nvPr/>
              </p:nvCxnSpPr>
              <p:spPr>
                <a:xfrm flipH="1" flipV="1" rot="5400000">
                  <a:off x="1937160" y="33573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40" name="AutoShape 15"/>
                <p:cNvSpPr/>
                <p:nvPr/>
              </p:nvSpPr>
              <p:spPr>
                <a:xfrm>
                  <a:off x="2971800" y="37335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41" name="Curved Connector 10"/>
                <p:cNvCxnSpPr>
                  <a:stCxn id="340" idx="3"/>
                  <a:endCxn id="335" idx="0"/>
                </p:cNvCxnSpPr>
                <p:nvPr/>
              </p:nvCxnSpPr>
              <p:spPr>
                <a:xfrm>
                  <a:off x="4800240" y="38854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42" name="AutoShape 23"/>
            <p:cNvSpPr/>
            <p:nvPr/>
          </p:nvSpPr>
          <p:spPr>
            <a:xfrm>
              <a:off x="6934320" y="4572000"/>
              <a:ext cx="1676160" cy="1522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2514600" y="4495680"/>
              <a:ext cx="1676520" cy="2286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4" name="Group 3"/>
          <p:cNvGrpSpPr/>
          <p:nvPr/>
        </p:nvGrpSpPr>
        <p:grpSpPr>
          <a:xfrm>
            <a:off x="1600200" y="1730520"/>
            <a:ext cx="6705720" cy="860400"/>
            <a:chOff x="1600200" y="1730520"/>
            <a:chExt cx="6705720" cy="860400"/>
          </a:xfrm>
        </p:grpSpPr>
        <p:sp>
          <p:nvSpPr>
            <p:cNvPr id="345" name="AutoShape 5"/>
            <p:cNvSpPr/>
            <p:nvPr/>
          </p:nvSpPr>
          <p:spPr>
            <a:xfrm>
              <a:off x="3562920" y="221364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>
              <a:off x="1600200" y="1730520"/>
              <a:ext cx="6705720" cy="4791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23"/>
          <p:cNvSpPr/>
          <p:nvPr/>
        </p:nvSpPr>
        <p:spPr>
          <a:xfrm>
            <a:off x="2971800" y="1066680"/>
            <a:ext cx="3581280" cy="457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9" name="Curved Connector 9"/>
          <p:cNvCxnSpPr>
            <a:stCxn id="346" idx="3"/>
            <a:endCxn id="335" idx="0"/>
          </p:cNvCxnSpPr>
          <p:nvPr/>
        </p:nvCxnSpPr>
        <p:spPr>
          <a:xfrm flipH="1">
            <a:off x="5673240" y="1969560"/>
            <a:ext cx="2633040" cy="2453400"/>
          </a:xfrm>
          <a:prstGeom prst="curvedConnector5">
            <a:avLst>
              <a:gd name="adj1" fmla="val -8683"/>
              <a:gd name="adj2" fmla="val 27560"/>
              <a:gd name="adj3" fmla="val -8683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grpSp>
        <p:nvGrpSpPr>
          <p:cNvPr id="350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3" name="Group 46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4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Oval 48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56" name="AutoShape 130"/>
          <p:cNvCxnSpPr>
            <a:stCxn id="340" idx="0"/>
          </p:cNvCxnSpPr>
          <p:nvPr/>
        </p:nvCxnSpPr>
        <p:spPr>
          <a:xfrm flipV="1">
            <a:off x="3886200" y="327636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Rectangle 1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1_Searching_and_Directly_Associateing_Parameters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Hz  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Hz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 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Hz 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Hz' of OWNER (2) to 12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Hz 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05T20:28:14Z</cp:lastPrinted>
  <dcterms:modified xsi:type="dcterms:W3CDTF">2017-12-16T22:24:22Z</dcterms:modified>
  <cp:revision>25</cp:revision>
  <dc:subject/>
  <dc:title>ex11_Searching_and_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24:21Z</vt:lpwstr>
  </property>
  <property fmtid="{D5CDD505-2E9C-101B-9397-08002B2CF9AE}" pid="5" name="TitusGUID">
    <vt:lpwstr>3cb855b7-0950-486a-ab41-5d5a221903ba</vt:lpwstr>
  </property>
</Properties>
</file>