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7B41B-90A4-4E68-B9DE-F5C04DC30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8752B-09C1-4139-903A-75A102A769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872DB4-DF9E-4FF2-8187-B1E3EDE597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5E634-2DFD-4699-9AB1-87471955B6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E175C-2018-4081-85DF-30B0D155F0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180E0-A7D2-4687-AF8A-C8887163D7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5F7C2-7309-4317-8118-63CCFFDD20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C42C8-34E6-4629-8599-88C883D849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C8470-0065-419B-85FB-6221C32348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B3B8E-C776-462B-A0D9-FB656269EB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1C55F-4C1F-4CA4-8A16-1F8C68AB4C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5AA48-8810-41BB-8759-05A8DE28AD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F1B99-67B5-4EBF-88C8-A08F3E7860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E81A4F-7F07-47F4-88C2-9C8CCF28E6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DAE9F-5137-49E6-BD52-5932339828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10B62-9A27-4BAA-8F2B-5A226FD34D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96A676-1C20-48B4-868F-FB1F415578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2E4E8-9ED8-4921-AC2A-F6BE3E8005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A6599-B388-4643-87D5-A04FF9AF67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F3811-9098-4BDA-80DE-746836C48C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C8582-6C41-47F8-AF11-AA4FEBEE59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2FADC-BE26-4CAA-9BBF-A27D94AA92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B339D-FB4A-4471-B8C5-1DFEC559F1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EC581-F4AC-4D9D-A184-168DD51E13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66CEA-C197-4E9F-B313-0A1456CE95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8580B-6C12-48AD-A56C-F31946C9C1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A54A9-2263-4AE8-855D-5C633E035E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9B7E9-6306-486B-8653-539E973D49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F7EEF2-7DD0-4778-BE07-611D2ED4C6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86B65-B4FA-4A71-83F0-E59F7C72F2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98757-ED87-457E-8C40-D36640FAF0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A5D43-DBBC-4DBA-BCCE-C47E861CD2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F6CB33-EC6B-4EBD-B530-F9573977A2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6AEBA-AD77-40B0-AB19-D1E0CEA7FE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A86F3-12E9-431F-ABAD-8AEDEF6C93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09761-127E-463F-AC52-8FF7DF2D9F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6390F-4D17-4953-B915-3C4318F5D4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D3622-D8AF-4A49-A9C2-A61574F419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C49EB-F3FD-44AE-B53E-222F0605AC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F79D7-7210-417C-BAAC-EA3F0B112B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27715-0344-4FC1-BE32-31E42305930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05113-05C2-40E4-95B8-E0BC745E0E7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D9585-414A-4481-9D84-F21B5D1368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34C71-4D28-4A42-8E55-77B351B334B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95262-8E13-42DF-877C-87A1A6E440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3A065-2BB5-4374-851D-78D6D2E9208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838D3-8C51-4D4F-8D0E-8911A61AEB5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D8CBC-2E56-4AA2-AD4F-9A869B77974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347B0-6BC2-4491-B7A2-B598E8A6C8F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9C795-D54E-489B-BD05-BBEAA63FDC6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CA9EE-D065-4F19-AF25-56D534CE1E8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6BF1A-AB86-4858-8954-91B6C40A911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16E16-8ADA-445B-A3E4-8940D4BCBD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902E8-AC41-4C32-BC51-51A68590E4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4D7DC-005B-4606-AA31-CE82CD177B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CA405-CA4E-4193-8FAC-E712A394C2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BFE9F-611B-4540-A981-DE7C3E5DEA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C2BF9-6931-4AE8-B32F-A95C73E5A2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449D8-C24C-4B76-8736-C155C04840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F1EC3-9D2C-4CEB-9E08-0FFECE0BA9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6626389C-802A-462A-A1D5-C6C7340480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Tracing Parameter Activity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trieving handle for newly created cci_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Name : param_owner.doubl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has been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Value : 12.3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gistering other callbacks on the newly created cci-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racing Parameter Activ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nfigurator perspective: show how to use the parameter creation callback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Report the creation and modification of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3"/>
          <p:cNvSpPr/>
          <p:nvPr/>
        </p:nvSpPr>
        <p:spPr>
          <a:xfrm>
            <a:off x="609480" y="3733920"/>
            <a:ext cx="2895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34"/>
          <p:cNvSpPr/>
          <p:nvPr/>
        </p:nvSpPr>
        <p:spPr>
          <a:xfrm>
            <a:off x="6095880" y="3733920"/>
            <a:ext cx="2667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37"/>
          <p:cNvSpPr/>
          <p:nvPr/>
        </p:nvSpPr>
        <p:spPr>
          <a:xfrm>
            <a:off x="457200" y="68580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.cpp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estbench fi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8"/>
          <p:cNvSpPr/>
          <p:nvPr/>
        </p:nvSpPr>
        <p:spPr>
          <a:xfrm>
            <a:off x="457200" y="1066680"/>
            <a:ext cx="800100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itialize and register global broker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register_broker(new cci_utils::broker(“My Global Broker”));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antiate the </a:t>
            </a:r>
            <a:r>
              <a:rPr b="0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class (which registers various callbacks to trace cci-parameters 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activities)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ter, instantiate the </a:t>
            </a:r>
            <a:r>
              <a:rPr b="0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_owner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modul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_inst;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                                        // A simple C++ Class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_owner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_owner(“param_owner”);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</a:t>
            </a:r>
            <a:r>
              <a:rPr b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// 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 Owner modul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40"/>
          <p:cNvSpPr/>
          <p:nvPr/>
        </p:nvSpPr>
        <p:spPr>
          <a:xfrm>
            <a:off x="3733920" y="2666880"/>
            <a:ext cx="1752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.cp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8" name="Straight Arrow Connector 43"/>
          <p:cNvCxnSpPr>
            <a:stCxn id="187" idx="2"/>
            <a:endCxn id="183" idx="0"/>
          </p:cNvCxnSpPr>
          <p:nvPr/>
        </p:nvCxnSpPr>
        <p:spPr>
          <a:xfrm flipH="1">
            <a:off x="2057040" y="3047760"/>
            <a:ext cx="25531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Straight Arrow Connector 45"/>
          <p:cNvCxnSpPr>
            <a:stCxn id="187" idx="2"/>
            <a:endCxn id="184" idx="0"/>
          </p:cNvCxnSpPr>
          <p:nvPr/>
        </p:nvCxnSpPr>
        <p:spPr>
          <a:xfrm>
            <a:off x="4610160" y="3047760"/>
            <a:ext cx="282024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0" name="Rectangle 46"/>
          <p:cNvSpPr/>
          <p:nvPr/>
        </p:nvSpPr>
        <p:spPr>
          <a:xfrm>
            <a:off x="228600" y="4267080"/>
            <a:ext cx="4267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OLE 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antiate few cci-paramet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param&lt;int&gt;    *      int_param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param&lt;float&gt; *     float_param;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ake changes to their values during simul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Rectangle 47"/>
          <p:cNvSpPr/>
          <p:nvPr/>
        </p:nvSpPr>
        <p:spPr>
          <a:xfrm>
            <a:off x="4724280" y="4114800"/>
            <a:ext cx="41911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OLE 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t handle for the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lobal broker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callbacks for notifying creation of new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other callback by getting hold of the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 handle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Straight Connector 28"/>
          <p:cNvSpPr/>
          <p:nvPr/>
        </p:nvSpPr>
        <p:spPr>
          <a:xfrm flipH="1">
            <a:off x="7237440" y="41148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Straight Connector 28"/>
          <p:cNvSpPr/>
          <p:nvPr/>
        </p:nvSpPr>
        <p:spPr>
          <a:xfrm>
            <a:off x="2286000" y="4191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ectangle 13"/>
          <p:cNvSpPr/>
          <p:nvPr/>
        </p:nvSpPr>
        <p:spPr>
          <a:xfrm>
            <a:off x="2666880" y="114300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Straight Connector 28"/>
          <p:cNvSpPr/>
          <p:nvPr/>
        </p:nvSpPr>
        <p:spPr>
          <a:xfrm flipH="1">
            <a:off x="1598760" y="1676520"/>
            <a:ext cx="144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2971800" y="1828800"/>
            <a:ext cx="58672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t global broker 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originator observer_originator("observer")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broker_handle(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get_global_broker(observer_originator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2819520" y="3733920"/>
            <a:ext cx="624816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a callback to notify the creation of cci-parameters of the parameter_owner modules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m_broker.register_crea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c_bind(&amp;ex20_observer::config_new_param_callback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his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c_unnamed::_1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33"/>
          <p:cNvSpPr/>
          <p:nvPr/>
        </p:nvSpPr>
        <p:spPr>
          <a:xfrm>
            <a:off x="152280" y="914400"/>
            <a:ext cx="2895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00600" y="1600200"/>
            <a:ext cx="3581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Various other callbacks registratio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Straight Connector 28"/>
          <p:cNvSpPr/>
          <p:nvPr/>
        </p:nvSpPr>
        <p:spPr>
          <a:xfrm flipH="1">
            <a:off x="1598760" y="1676520"/>
            <a:ext cx="144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2057400" y="2057400"/>
            <a:ext cx="7010280" cy="373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ithin the callback implementation of the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fig_new_param_callback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function, register other callback functions for monitoring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ad, writ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activities on to the cci-parameter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// Get reference of newly created cci-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base_handle = m_broker.get_param_handle(param_handle.get_name(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// Register pre-read, pre/post-write callbac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re_read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re_read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re_wri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re_write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ost_wri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ost_write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2743200" y="10666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2895480" y="114300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380880" y="1676520"/>
            <a:ext cx="44960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t default value to the integer-type cci-parameter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  =  new cci::cnf::cci_param&lt;int&gt;(“int_param”, 10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4724280" y="2514600"/>
            <a:ext cx="3733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 has been create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4724280" y="3276720"/>
            <a:ext cx="37339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trieve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andle for the ‘int_param’ cci-parameter 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d stores it to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4724280" y="411480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read callback using </a:t>
            </a: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new_param_handle</a:t>
            </a:r>
            <a:br>
              <a:rPr sz="1400"/>
            </a:b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write callback using new_param_handle</a:t>
            </a:r>
            <a:br>
              <a:rPr sz="1400"/>
            </a:b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ost_write callback using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3505320" y="11430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0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380880" y="1752480"/>
            <a:ext cx="3048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t  (arbitrary) new value to the </a:t>
            </a:r>
            <a:r>
              <a:rPr b="0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*int_param = 15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Rectangle 15"/>
          <p:cNvSpPr/>
          <p:nvPr/>
        </p:nvSpPr>
        <p:spPr>
          <a:xfrm>
            <a:off x="4648320" y="2362320"/>
            <a:ext cx="403848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read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write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read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st_write activity on the ‘int_param’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15"/>
          <p:cNvSpPr/>
          <p:nvPr/>
        </p:nvSpPr>
        <p:spPr>
          <a:xfrm>
            <a:off x="4191120" y="4419720"/>
            <a:ext cx="243828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75" y="2492"/>
                </a:moveTo>
                <a:lnTo>
                  <a:pt x="-5330" y="2492"/>
                </a:lnTo>
                <a:lnTo>
                  <a:pt x="-5330" y="-8688"/>
                </a:lnTo>
                <a:lnTo>
                  <a:pt x="8466" y="-21392"/>
                </a:lnTo>
              </a:path>
              <a:path w="21600" h="21600">
                <a:moveTo>
                  <a:pt x="-675" y="0"/>
                </a:moveTo>
                <a:lnTo>
                  <a:pt x="-675" y="216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re_read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callback is called because value of the parameter is read within th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pre_write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post_write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callbac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Rectangle 15"/>
          <p:cNvSpPr/>
          <p:nvPr/>
        </p:nvSpPr>
        <p:spPr>
          <a:xfrm>
            <a:off x="380880" y="1676520"/>
            <a:ext cx="5029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reate and set default value to the float-type cci-parameter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oat_param  =  new cci::cnf::cci_param&lt;int&gt;(“float_param”, 12.345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4724280" y="2514600"/>
            <a:ext cx="3733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oat_param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 has been create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4724280" y="3276720"/>
            <a:ext cx="38862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trieve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andle for the ‘float_param’ cci-parameter 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d stores it to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Rectangle 15"/>
          <p:cNvSpPr/>
          <p:nvPr/>
        </p:nvSpPr>
        <p:spPr>
          <a:xfrm>
            <a:off x="4724280" y="411480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read callback using </a:t>
            </a: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new_param_handle</a:t>
            </a:r>
            <a:br>
              <a:rPr sz="1400"/>
            </a:b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write callback using new_param_handle</a:t>
            </a:r>
            <a:br>
              <a:rPr sz="1400"/>
            </a:b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ost_write callback using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3657600" y="11430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5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20_Tracing_Parameter_Activity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Creating new integer type cci-parameter with default value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trieving handle for newly created cci_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has been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gistering other callbacks on the newly created cci-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Setting new value to the 'int' type param to '15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re_write_cb] : Retrieving details of new cci-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re_write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ost_write_cb] : Retrieving details of new cci-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ost_write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Creating new 'double' type cci-parameter with default value : 12.3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01:25:28Z</dcterms:modified>
  <cp:revision>82</cp:revision>
  <dc:subject/>
  <dc:title>ex20_Tracing_Parameter_Acti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1:25:27Z</vt:lpwstr>
  </property>
  <property fmtid="{D5CDD505-2E9C-101B-9397-08002B2CF9AE}" pid="5" name="TitusGUID">
    <vt:lpwstr>c510a3f5-05aa-41bf-bec3-42483cac079d</vt:lpwstr>
  </property>
</Properties>
</file>