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5ECF8-B4E6-46D2-A5E8-BE94EFA21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F782A-7A40-4853-8FCD-07B398F257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26D3D-C03C-4F22-9928-E200483828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506C0-293C-473F-B9B6-B09101A1C7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62E7D-DAE9-4659-8F2B-7CBC8EE791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BA82D-8FF1-4453-B907-951D2D2395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096AC-D48E-448A-9775-7646A12E30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E57F5-14C6-48B7-9411-F4F75F3192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CBDDB-29C7-435F-BA8D-62AA147D22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A0EFD-06D0-4169-838A-EBFFE194BC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45003-2A01-41AE-9ED9-BAB08EF77E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B139F-B397-44AD-A9A7-2C131A6BD8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BFFBC-3DF0-4C7C-8330-22AD3B7917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7DC76-A592-4A61-86E8-455A2B207A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B9452-D76C-422B-A38A-AF84614D5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240E-2848-4FB2-8AF3-7C1386560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FFC5-60A2-47CA-87AF-6BC3D944C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74E4-41D1-4ED1-9168-D25031E211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8D3D-0259-4924-8C83-4073D30E5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CFD8-F4BF-450C-B917-EB6821290B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4F9C7-07A8-4B45-BC7F-EB0CFA212D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98A81-4D37-4590-918D-416A13E456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74415-5D52-45C9-AF58-7083828DCD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2756D-384F-4FC5-B3E4-EE20707FD0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9BAF-7121-4997-9A00-ECDDBC35D6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B8B55-AE7C-47DF-B2DF-1F7D88A474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93EDA-C58C-4520-BC15-349331EC59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7383C-3D6D-4B4E-82D4-012CF56DE2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1BA1E-CD20-460D-ABA4-960C5C4DF5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0208D-B390-492A-847B-884C44D552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9F26F-DA9C-4E5C-BAFA-1B73B9229D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339A5-72EE-4305-B02C-03F8CDEB6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C089-E1F8-45EE-BF5C-24F10E101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5FE1-A752-48D2-9872-3F64B77F7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C16D-616E-4060-8650-DB46CEFF7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7CAA-4565-49F9-A548-88F82EAC8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4754-96BE-4EBF-A4C1-9C077AC9B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0BAA-6C4A-4DCF-861F-8D761CC17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E01D6-0844-4988-8664-65E58D6567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50344830-D948-46F3-AFCE-D9A4AAA8C0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6:03:05Z</dcterms:modified>
  <cp:revision>85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6:03:05Z</vt:lpwstr>
  </property>
  <property fmtid="{D5CDD505-2E9C-101B-9397-08002B2CF9AE}" pid="5" name="TitusGUID">
    <vt:lpwstr>522d689a-30a7-4b0c-9d2d-5977e3992383</vt:lpwstr>
  </property>
</Properties>
</file>