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AutoShape 1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" name="AutoShape 2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0" y="0"/>
            <a:ext cx="6669000" cy="992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" name="Freeform 4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" name="Freeform 5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Freeform 6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" name="Freeform 7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" name="Freeform 8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" name="Freeform 9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Freeform 10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" name="Freeform 11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Freeform 12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Freeform 13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Freeform 14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" name="Freeform 15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" name="Freeform 16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" name="Freeform 17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Freeform 19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Freeform 20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Freeform 21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" name="Freeform 22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Freeform 23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" name="Freeform 24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Freeform 25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Freeform 26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Freeform 27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Freeform 28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Freeform 30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" name="Freeform 31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Freeform 32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Freeform 33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Freeform 34"/>
          <p:cNvSpPr/>
          <p:nvPr/>
        </p:nvSpPr>
        <p:spPr>
          <a:xfrm>
            <a:off x="0" y="0"/>
            <a:ext cx="2889360" cy="496800"/>
          </a:xfrm>
          <a:custGeom>
            <a:avLst/>
            <a:gdLst>
              <a:gd name="textAreaLeft" fmla="*/ 0 w 2889360"/>
              <a:gd name="textAreaRight" fmla="*/ 2889720 w 2889360"/>
              <a:gd name="textAreaTop" fmla="*/ 0 h 496800"/>
              <a:gd name="textAreaBottom" fmla="*/ 497160 h 496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Freeform 35"/>
          <p:cNvSpPr/>
          <p:nvPr/>
        </p:nvSpPr>
        <p:spPr>
          <a:xfrm>
            <a:off x="3778200" y="0"/>
            <a:ext cx="2889360" cy="496800"/>
          </a:xfrm>
          <a:custGeom>
            <a:avLst/>
            <a:gdLst>
              <a:gd name="textAreaLeft" fmla="*/ 0 w 2889360"/>
              <a:gd name="textAreaRight" fmla="*/ 2889720 w 2889360"/>
              <a:gd name="textAreaTop" fmla="*/ 0 h 496800"/>
              <a:gd name="textAreaBottom" fmla="*/ 497160 h 496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865080" y="744120"/>
            <a:ext cx="4889520" cy="36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66720" y="4716000"/>
            <a:ext cx="5286240" cy="441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Freeform 38"/>
          <p:cNvSpPr/>
          <p:nvPr/>
        </p:nvSpPr>
        <p:spPr>
          <a:xfrm>
            <a:off x="0" y="9429840"/>
            <a:ext cx="2889360" cy="496800"/>
          </a:xfrm>
          <a:custGeom>
            <a:avLst/>
            <a:gdLst>
              <a:gd name="textAreaLeft" fmla="*/ 0 w 2889360"/>
              <a:gd name="textAreaRight" fmla="*/ 2889720 w 2889360"/>
              <a:gd name="textAreaTop" fmla="*/ 0 h 496800"/>
              <a:gd name="textAreaBottom" fmla="*/ 497160 h 496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sldNum" idx="2"/>
          </p:nvPr>
        </p:nvSpPr>
        <p:spPr>
          <a:xfrm>
            <a:off x="3777840" y="9429840"/>
            <a:ext cx="28400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5E0777-0629-4D63-9782-02735C5EC7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39"/>
          <p:cNvSpPr/>
          <p:nvPr/>
        </p:nvSpPr>
        <p:spPr>
          <a:xfrm>
            <a:off x="3778200" y="9429840"/>
            <a:ext cx="28400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D7520F-A793-43D8-B3C0-6EC8665DE2F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3" name="AutoShape 1"/>
          <p:cNvSpPr/>
          <p:nvPr/>
        </p:nvSpPr>
        <p:spPr>
          <a:xfrm>
            <a:off x="3778200" y="9429840"/>
            <a:ext cx="28893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42BEBF-FBCF-4A1A-B50A-207C9448F79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ejaVu San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39"/>
          <p:cNvSpPr/>
          <p:nvPr/>
        </p:nvSpPr>
        <p:spPr>
          <a:xfrm>
            <a:off x="3778200" y="9429840"/>
            <a:ext cx="28400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05D981-5EA8-4025-8B6D-E14E6E79463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894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ejaVu Sans"/>
            </a:endParaRPr>
          </a:p>
        </p:txBody>
      </p:sp>
      <p:sp>
        <p:nvSpPr>
          <p:cNvPr id="209" name="AutoShape 3"/>
          <p:cNvSpPr/>
          <p:nvPr/>
        </p:nvSpPr>
        <p:spPr>
          <a:xfrm>
            <a:off x="3778200" y="9429840"/>
            <a:ext cx="28893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95861F-C769-4D15-A7C0-A77A0F6AC5E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39"/>
          <p:cNvSpPr/>
          <p:nvPr/>
        </p:nvSpPr>
        <p:spPr>
          <a:xfrm>
            <a:off x="3778200" y="9429840"/>
            <a:ext cx="28400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A1556F-AE40-4654-89A5-D7F3F74945D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894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ejaVu Sans"/>
            </a:endParaRPr>
          </a:p>
        </p:txBody>
      </p:sp>
      <p:sp>
        <p:nvSpPr>
          <p:cNvPr id="213" name="AutoShape 3"/>
          <p:cNvSpPr/>
          <p:nvPr/>
        </p:nvSpPr>
        <p:spPr>
          <a:xfrm>
            <a:off x="3778200" y="9429840"/>
            <a:ext cx="28893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F531BD-ADBC-47F3-A66B-25F4C0AA086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39"/>
          <p:cNvSpPr/>
          <p:nvPr/>
        </p:nvSpPr>
        <p:spPr>
          <a:xfrm>
            <a:off x="3778200" y="9429840"/>
            <a:ext cx="28400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FDC333-0585-40F6-989F-9793D8EE0FE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894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ejaVu Sans"/>
            </a:endParaRPr>
          </a:p>
        </p:txBody>
      </p:sp>
      <p:sp>
        <p:nvSpPr>
          <p:cNvPr id="217" name="AutoShape 3"/>
          <p:cNvSpPr/>
          <p:nvPr/>
        </p:nvSpPr>
        <p:spPr>
          <a:xfrm>
            <a:off x="3778200" y="9429840"/>
            <a:ext cx="28893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5E1DCC-7554-477C-8408-73A2E2619F4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39"/>
          <p:cNvSpPr/>
          <p:nvPr/>
        </p:nvSpPr>
        <p:spPr>
          <a:xfrm>
            <a:off x="3778200" y="9429840"/>
            <a:ext cx="28400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F9C9F1-7CCB-4DDB-88B4-E23A4AA9CB6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894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ejaVu Sans"/>
            </a:endParaRPr>
          </a:p>
        </p:txBody>
      </p:sp>
      <p:sp>
        <p:nvSpPr>
          <p:cNvPr id="221" name="AutoShape 3"/>
          <p:cNvSpPr/>
          <p:nvPr/>
        </p:nvSpPr>
        <p:spPr>
          <a:xfrm>
            <a:off x="3778200" y="9429840"/>
            <a:ext cx="28893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F36600-726D-4708-970E-70100152E66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39"/>
          <p:cNvSpPr/>
          <p:nvPr/>
        </p:nvSpPr>
        <p:spPr>
          <a:xfrm>
            <a:off x="3778200" y="9429840"/>
            <a:ext cx="28400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4C4E7A-AD67-4C3F-8245-1995A3E1145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860400" y="744480"/>
            <a:ext cx="4915080" cy="36864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894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ejaVu San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39"/>
          <p:cNvSpPr/>
          <p:nvPr/>
        </p:nvSpPr>
        <p:spPr>
          <a:xfrm>
            <a:off x="3778200" y="9429840"/>
            <a:ext cx="28400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733FA2-C371-416F-A266-889B8D35590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860400" y="744480"/>
            <a:ext cx="4915080" cy="36864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894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ejaVu San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865080" y="744480"/>
            <a:ext cx="4889520" cy="366876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66720" y="4716000"/>
            <a:ext cx="5286240" cy="441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778200" y="9429840"/>
            <a:ext cx="28400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6B2217-7EC8-4521-9029-0D0EDDD44DC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C76DE0-FE52-4BAB-80ED-1E26AF443B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63604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520" y="3743280"/>
            <a:ext cx="863604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AD9289-CB72-4A10-B5AB-C0C8675004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1416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05640" y="1142640"/>
            <a:ext cx="421416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520" y="3743280"/>
            <a:ext cx="421416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05640" y="3743280"/>
            <a:ext cx="421416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32D850-7F2F-478A-B2C6-63F7FE65EA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278064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00480" y="1142640"/>
            <a:ext cx="278064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20800" y="1142640"/>
            <a:ext cx="278064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520" y="3743280"/>
            <a:ext cx="278064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00480" y="3743280"/>
            <a:ext cx="278064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20800" y="3743280"/>
            <a:ext cx="278064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3461D1-2DD0-4B70-A666-9398290451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142640"/>
            <a:ext cx="8636040" cy="49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636040" cy="49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14160" cy="49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05640" y="1142640"/>
            <a:ext cx="4214160" cy="49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520" y="0"/>
            <a:ext cx="8636040" cy="506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1416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05640" y="1142640"/>
            <a:ext cx="4214160" cy="49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743280"/>
            <a:ext cx="421416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520" y="1142640"/>
            <a:ext cx="8636040" cy="49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EB8E25-EB7F-426E-8A14-C1305434C3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14160" cy="49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05640" y="1142640"/>
            <a:ext cx="421416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05640" y="3743280"/>
            <a:ext cx="421416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1416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05640" y="1142640"/>
            <a:ext cx="421416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743280"/>
            <a:ext cx="863604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63604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743280"/>
            <a:ext cx="863604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1416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05640" y="1142640"/>
            <a:ext cx="421416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743280"/>
            <a:ext cx="421416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05640" y="3743280"/>
            <a:ext cx="421416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278064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00480" y="1142640"/>
            <a:ext cx="278064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20800" y="1142640"/>
            <a:ext cx="278064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743280"/>
            <a:ext cx="278064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00480" y="3743280"/>
            <a:ext cx="278064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20800" y="3743280"/>
            <a:ext cx="278064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636040" cy="49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B88645-573A-4F93-8CAD-4958908631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14160" cy="49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05640" y="1142640"/>
            <a:ext cx="4214160" cy="49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0D8207-D953-4B1E-8E4E-B2493E66F8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885513-FEC2-4921-AFD1-AF336BB379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520" y="0"/>
            <a:ext cx="8636040" cy="506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B9B57F-3F35-4D37-9D19-C683CE69B7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1416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05640" y="1142640"/>
            <a:ext cx="4214160" cy="49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520" y="3743280"/>
            <a:ext cx="421416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540A0D-78ED-4B53-BAD4-183E3CFE16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14160" cy="49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05640" y="1142640"/>
            <a:ext cx="421416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05640" y="3743280"/>
            <a:ext cx="421416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910D97-6E29-48B9-89A9-58B9CAE265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1416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05640" y="1142640"/>
            <a:ext cx="421416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520" y="3743280"/>
            <a:ext cx="863604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21D377-A5FD-4475-8B26-D008BF7E3E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520" y="1142640"/>
            <a:ext cx="8636040" cy="49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600" y="6287760"/>
            <a:ext cx="1168560" cy="5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3645C2-10E2-46E7-816C-B4A19661771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520" y="1142640"/>
            <a:ext cx="8636040" cy="49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AutoShape 2"/>
          <p:cNvSpPr/>
          <p:nvPr/>
        </p:nvSpPr>
        <p:spPr>
          <a:xfrm>
            <a:off x="3352680" y="5029200"/>
            <a:ext cx="4343400" cy="1200240"/>
          </a:xfrm>
          <a:prstGeom prst="pie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 V S Phaneendra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ircuitSutra Technologies Pvt. Ltd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y 2011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" name="Rectangle 2"/>
          <p:cNvSpPr/>
          <p:nvPr/>
        </p:nvSpPr>
        <p:spPr>
          <a:xfrm>
            <a:off x="507960" y="3359160"/>
            <a:ext cx="8331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DejaVu Sans"/>
              </a:rPr>
              <a:t>Hierarchical Override of Parameter Values</a:t>
            </a:r>
            <a:br>
              <a:rPr sz="3000"/>
            </a:b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DejaVu Sans"/>
              </a:rPr>
              <a:t>SystemC CCI WG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AutoShape 1"/>
          <p:cNvSpPr/>
          <p:nvPr/>
        </p:nvSpPr>
        <p:spPr>
          <a:xfrm>
            <a:off x="236520" y="144360"/>
            <a:ext cx="8686800" cy="9144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ierarchical Override of Parameter Valu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AutoShape 2"/>
          <p:cNvSpPr/>
          <p:nvPr/>
        </p:nvSpPr>
        <p:spPr>
          <a:xfrm>
            <a:off x="236520" y="1285920"/>
            <a:ext cx="8786880" cy="3886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objectives of the present example is to demonstrate the following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45000"/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el-to-Model Configuration (UseCase 12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45000"/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fault and Preset Values (UseCase 3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45000"/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-based Parameter Access (Requirement 1.3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Rectangle 5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AutoShape 1"/>
          <p:cNvSpPr/>
          <p:nvPr/>
        </p:nvSpPr>
        <p:spPr>
          <a:xfrm>
            <a:off x="1371600" y="108000"/>
            <a:ext cx="6172200" cy="577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egend Diagram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1444680" y="851040"/>
            <a:ext cx="6102360" cy="4376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27" name="AutoShape 3"/>
          <p:cNvSpPr/>
          <p:nvPr/>
        </p:nvSpPr>
        <p:spPr>
          <a:xfrm>
            <a:off x="1219320" y="5445000"/>
            <a:ext cx="6553080" cy="4222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89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This legend diagram doesn't apply to the </a:t>
            </a: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Expected Output</a:t>
            </a: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 section!!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Rectangle 6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Freeform 1"/>
          <p:cNvSpPr/>
          <p:nvPr/>
        </p:nvSpPr>
        <p:spPr>
          <a:xfrm>
            <a:off x="157320" y="179280"/>
            <a:ext cx="8915400" cy="5943600"/>
          </a:xfrm>
          <a:custGeom>
            <a:avLst/>
            <a:gdLst>
              <a:gd name="textAreaLeft" fmla="*/ 360 w 8915400"/>
              <a:gd name="textAreaRight" fmla="*/ 8915040 w 8915400"/>
              <a:gd name="textAreaTop" fmla="*/ 360 h 5943600"/>
              <a:gd name="textAreaBottom" fmla="*/ 5943240 h 5943600"/>
            </a:gdLst>
            <a:ahLst/>
            <a:rect l="textAreaLeft" t="textAreaTop" r="textAreaRight" b="textAreaBottom"/>
            <a:pathLst>
              <a:path w="8915400" h="5943600">
                <a:moveTo>
                  <a:pt x="1376" y="0"/>
                </a:moveTo>
                <a:lnTo>
                  <a:pt x="1375" y="0"/>
                </a:lnTo>
                <a:cubicBezTo>
                  <a:pt x="616" y="0"/>
                  <a:pt x="0" y="616"/>
                  <a:pt x="0" y="1375"/>
                </a:cubicBezTo>
                <a:lnTo>
                  <a:pt x="0" y="5942224"/>
                </a:lnTo>
                <a:cubicBezTo>
                  <a:pt x="0" y="5942983"/>
                  <a:pt x="616" y="5943599"/>
                  <a:pt x="1375" y="5943600"/>
                </a:cubicBezTo>
                <a:lnTo>
                  <a:pt x="8914024" y="5943600"/>
                </a:lnTo>
                <a:cubicBezTo>
                  <a:pt x="8914783" y="5943599"/>
                  <a:pt x="8915400" y="5942983"/>
                  <a:pt x="8915400" y="5942224"/>
                </a:cubicBezTo>
                <a:lnTo>
                  <a:pt x="8915400" y="1376"/>
                </a:lnTo>
                <a:cubicBezTo>
                  <a:pt x="8915400" y="616"/>
                  <a:pt x="8914783" y="0"/>
                  <a:pt x="8914024" y="0"/>
                </a:cubicBezTo>
                <a:lnTo>
                  <a:pt x="1376" y="0"/>
                </a:lnTo>
                <a:close/>
              </a:path>
            </a:pathLst>
          </a:custGeom>
          <a:solidFill>
            <a:srgbClr val="cccc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AutoShape 2"/>
          <p:cNvSpPr/>
          <p:nvPr/>
        </p:nvSpPr>
        <p:spPr>
          <a:xfrm>
            <a:off x="7581960" y="2575080"/>
            <a:ext cx="1295280" cy="412560"/>
          </a:xfrm>
          <a:prstGeom prst="pie">
            <a:avLst/>
          </a:prstGeom>
          <a:solidFill>
            <a:srgbClr val="ff3366"/>
          </a:solidFill>
          <a:ln w="9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720" rIns="81720" tIns="38520" bIns="3852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lave#n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Freeform 3"/>
          <p:cNvSpPr/>
          <p:nvPr/>
        </p:nvSpPr>
        <p:spPr>
          <a:xfrm>
            <a:off x="8204040" y="2222640"/>
            <a:ext cx="11160" cy="284040"/>
          </a:xfrm>
          <a:custGeom>
            <a:avLst/>
            <a:gdLst>
              <a:gd name="textAreaLeft" fmla="*/ 0 w 11160"/>
              <a:gd name="textAreaRight" fmla="*/ 11160 w 11160"/>
              <a:gd name="textAreaTop" fmla="*/ 0 h 284040"/>
              <a:gd name="textAreaBottom" fmla="*/ 284400 h 284040"/>
            </a:gdLst>
            <a:ahLst/>
            <a:rect l="textAreaLeft" t="textAreaTop" r="textAreaRight" b="textAreaBottom"/>
            <a:pathLst>
              <a:path w="11164" h="284040">
                <a:moveTo>
                  <a:pt x="0" y="0"/>
                </a:moveTo>
                <a:lnTo>
                  <a:pt x="11164" y="284040"/>
                </a:lnTo>
              </a:path>
            </a:pathLst>
          </a:custGeom>
          <a:noFill/>
          <a:ln w="25560">
            <a:solidFill>
              <a:srgbClr val="4a7eb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AutoShape 4"/>
          <p:cNvSpPr/>
          <p:nvPr/>
        </p:nvSpPr>
        <p:spPr>
          <a:xfrm>
            <a:off x="3079800" y="843120"/>
            <a:ext cx="3549600" cy="2917800"/>
          </a:xfrm>
          <a:prstGeom prst="pie">
            <a:avLst/>
          </a:prstGeom>
          <a:solidFill>
            <a:srgbClr val="ff996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AutoShape 5"/>
          <p:cNvSpPr/>
          <p:nvPr/>
        </p:nvSpPr>
        <p:spPr>
          <a:xfrm>
            <a:off x="806400" y="1344600"/>
            <a:ext cx="1461960" cy="407880"/>
          </a:xfrm>
          <a:prstGeom prst="pie">
            <a:avLst/>
          </a:prstGeom>
          <a:solidFill>
            <a:srgbClr val="00ff00"/>
          </a:solidFill>
          <a:ln w="9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720" rIns="81720" tIns="38520" bIns="38520" anchor="ctr" anchorCtr="1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ster#1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" name="AutoShape 6"/>
          <p:cNvSpPr/>
          <p:nvPr/>
        </p:nvSpPr>
        <p:spPr>
          <a:xfrm>
            <a:off x="806400" y="2208240"/>
            <a:ext cx="1461960" cy="407880"/>
          </a:xfrm>
          <a:prstGeom prst="pie">
            <a:avLst/>
          </a:prstGeom>
          <a:solidFill>
            <a:srgbClr val="00ff00"/>
          </a:solidFill>
          <a:ln w="9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720" rIns="81720" tIns="38520" bIns="38520" anchor="ctr" anchorCtr="1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ster#n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Freeform 7"/>
          <p:cNvSpPr/>
          <p:nvPr/>
        </p:nvSpPr>
        <p:spPr>
          <a:xfrm flipH="1">
            <a:off x="1790640" y="1760400"/>
            <a:ext cx="46080" cy="411480"/>
          </a:xfrm>
          <a:custGeom>
            <a:avLst/>
            <a:gdLst>
              <a:gd name="textAreaLeft" fmla="*/ 360 w 46080"/>
              <a:gd name="textAreaRight" fmla="*/ 46800 w 46080"/>
              <a:gd name="textAreaTop" fmla="*/ 0 h 411480"/>
              <a:gd name="textAreaBottom" fmla="*/ 411840 h 411480"/>
            </a:gdLst>
            <a:ahLst/>
            <a:rect l="textAreaLeft" t="textAreaTop" r="textAreaRight" b="textAreaBottom"/>
            <a:pathLst>
              <a:path w="44641" h="411123">
                <a:moveTo>
                  <a:pt x="0" y="0"/>
                </a:moveTo>
                <a:lnTo>
                  <a:pt x="44641" y="411123"/>
                </a:lnTo>
              </a:path>
            </a:pathLst>
          </a:custGeom>
          <a:noFill/>
          <a:ln w="25560">
            <a:solidFill>
              <a:srgbClr val="4a7eb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AutoShape 8"/>
          <p:cNvSpPr/>
          <p:nvPr/>
        </p:nvSpPr>
        <p:spPr>
          <a:xfrm>
            <a:off x="565200" y="420840"/>
            <a:ext cx="1828800" cy="533160"/>
          </a:xfrm>
          <a:prstGeom prst="pie">
            <a:avLst/>
          </a:prstGeom>
          <a:noFill/>
          <a:ln w="9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720" rIns="81720" tIns="38520" bIns="3852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p_Module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" name="AutoShape 9"/>
          <p:cNvSpPr/>
          <p:nvPr/>
        </p:nvSpPr>
        <p:spPr>
          <a:xfrm>
            <a:off x="6981840" y="3279600"/>
            <a:ext cx="2021040" cy="608040"/>
          </a:xfrm>
          <a:prstGeom prst="pie">
            <a:avLst/>
          </a:prstGeom>
          <a:solidFill>
            <a:srgbClr val="ff33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ave ID (eoe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ave Base Addr (eoe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ave Size (mutable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AutoShape 10"/>
          <p:cNvSpPr/>
          <p:nvPr/>
        </p:nvSpPr>
        <p:spPr>
          <a:xfrm>
            <a:off x="2971800" y="4495680"/>
            <a:ext cx="2743200" cy="1524240"/>
          </a:xfrm>
          <a:prstGeom prst="pie">
            <a:avLst/>
          </a:prstGeom>
          <a:solidFill>
            <a:srgbClr val="00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c_main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will set preset valu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the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TOP MODUL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max. addressable limit for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ROUTER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and fills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ROUTER TABLE contents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for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Slave_1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befo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he start of construction of any of th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s via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Name-based Look-</a:t>
            </a:r>
            <a:br>
              <a:rPr sz="1200"/>
            </a:b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Up Access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AutoShape 11"/>
          <p:cNvSpPr/>
          <p:nvPr/>
        </p:nvSpPr>
        <p:spPr>
          <a:xfrm>
            <a:off x="2971800" y="247680"/>
            <a:ext cx="5657760" cy="317520"/>
          </a:xfrm>
          <a:prstGeom prst="pie">
            <a:avLst/>
          </a:prstGeom>
          <a:solidFill>
            <a:srgbClr val="6d18c2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Bitstream Charter"/>
              </a:rPr>
              <a:t>Binding and Communication in accordance to TLM2.0 standard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AutoShape 14"/>
          <p:cNvSpPr/>
          <p:nvPr/>
        </p:nvSpPr>
        <p:spPr>
          <a:xfrm>
            <a:off x="152280" y="4043520"/>
            <a:ext cx="2743200" cy="1973160"/>
          </a:xfrm>
          <a:prstGeom prst="pie">
            <a:avLst/>
          </a:prstGeom>
          <a:solidFill>
            <a:srgbClr val="e6e6e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TOP MODUL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 in turn initialize few of the parameters of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ROUTER and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fill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ROUTER TABL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ontents.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TOP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MODULE shall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ruct the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Model Hierarch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 -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MASTER(S) &amp; SLAVE(S)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ROUTER, overridin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heir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default valu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wit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h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preset valu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thereby demonstrating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Model-to-Model Configuration.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AutoShape 15"/>
          <p:cNvSpPr/>
          <p:nvPr/>
        </p:nvSpPr>
        <p:spPr>
          <a:xfrm>
            <a:off x="7581960" y="1747800"/>
            <a:ext cx="1295280" cy="412920"/>
          </a:xfrm>
          <a:prstGeom prst="pie">
            <a:avLst/>
          </a:prstGeom>
          <a:solidFill>
            <a:srgbClr val="ff3366"/>
          </a:solidFill>
          <a:ln w="9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720" rIns="81720" tIns="38520" bIns="3852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lave#2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2" name="AutoShape 16"/>
          <p:cNvSpPr/>
          <p:nvPr/>
        </p:nvSpPr>
        <p:spPr>
          <a:xfrm>
            <a:off x="7581960" y="1100160"/>
            <a:ext cx="1295280" cy="411120"/>
          </a:xfrm>
          <a:prstGeom prst="pie">
            <a:avLst/>
          </a:prstGeom>
          <a:solidFill>
            <a:srgbClr val="ff3366"/>
          </a:solidFill>
          <a:ln w="9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720" rIns="81720" tIns="38520" bIns="38520" anchor="ctr" anchorCtr="1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lave#1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AutoShape 17"/>
          <p:cNvSpPr/>
          <p:nvPr/>
        </p:nvSpPr>
        <p:spPr>
          <a:xfrm>
            <a:off x="299880" y="3276720"/>
            <a:ext cx="2595600" cy="460080"/>
          </a:xfrm>
          <a:prstGeom prst="pie">
            <a:avLst/>
          </a:prstGeom>
          <a:solidFill>
            <a:srgbClr val="cccccc"/>
          </a:solidFill>
          <a:ln w="9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720" rIns="81720" tIns="38520" bIns="3852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of Master(s) (immutable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of Slave(s) (immutable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" name="AutoShape 18"/>
          <p:cNvSpPr/>
          <p:nvPr/>
        </p:nvSpPr>
        <p:spPr>
          <a:xfrm>
            <a:off x="4083120" y="1092240"/>
            <a:ext cx="1461960" cy="407880"/>
          </a:xfrm>
          <a:prstGeom prst="pie">
            <a:avLst/>
          </a:prstGeom>
          <a:solidFill>
            <a:srgbClr val="ff9966">
              <a:alpha val="50000"/>
            </a:srgbClr>
          </a:solidFill>
          <a:ln w="9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720" rIns="81720" tIns="38520" bIns="38520" anchor="ctr" anchorCtr="1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Freeform 19"/>
          <p:cNvSpPr/>
          <p:nvPr/>
        </p:nvSpPr>
        <p:spPr>
          <a:xfrm>
            <a:off x="2182680" y="1401840"/>
            <a:ext cx="1067040" cy="304560"/>
          </a:xfrm>
          <a:custGeom>
            <a:avLst/>
            <a:gdLst>
              <a:gd name="textAreaLeft" fmla="*/ 75960 w 1067040"/>
              <a:gd name="textAreaRight" fmla="*/ 991080 w 106704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086" y="0"/>
                </a:lnTo>
                <a:lnTo>
                  <a:pt x="3086" y="5400"/>
                </a:lnTo>
                <a:lnTo>
                  <a:pt x="18514" y="5400"/>
                </a:lnTo>
                <a:lnTo>
                  <a:pt x="18514" y="0"/>
                </a:lnTo>
                <a:lnTo>
                  <a:pt x="21600" y="10800"/>
                </a:lnTo>
                <a:lnTo>
                  <a:pt x="18514" y="21600"/>
                </a:lnTo>
                <a:lnTo>
                  <a:pt x="18514" y="16200"/>
                </a:lnTo>
                <a:lnTo>
                  <a:pt x="3086" y="16200"/>
                </a:lnTo>
                <a:lnTo>
                  <a:pt x="3086" y="21600"/>
                </a:lnTo>
                <a:lnTo>
                  <a:pt x="0" y="10800"/>
                </a:lnTo>
                <a:close/>
              </a:path>
            </a:pathLst>
          </a:custGeom>
          <a:solidFill>
            <a:srgbClr val="6d18c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Freeform 20"/>
          <p:cNvSpPr/>
          <p:nvPr/>
        </p:nvSpPr>
        <p:spPr>
          <a:xfrm>
            <a:off x="2182680" y="2301840"/>
            <a:ext cx="1067040" cy="304920"/>
          </a:xfrm>
          <a:custGeom>
            <a:avLst/>
            <a:gdLst>
              <a:gd name="textAreaLeft" fmla="*/ 75960 w 1067040"/>
              <a:gd name="textAreaRight" fmla="*/ 991080 w 106704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086" y="0"/>
                </a:lnTo>
                <a:lnTo>
                  <a:pt x="3086" y="5400"/>
                </a:lnTo>
                <a:lnTo>
                  <a:pt x="18514" y="5400"/>
                </a:lnTo>
                <a:lnTo>
                  <a:pt x="18514" y="0"/>
                </a:lnTo>
                <a:lnTo>
                  <a:pt x="21600" y="10800"/>
                </a:lnTo>
                <a:lnTo>
                  <a:pt x="18514" y="21600"/>
                </a:lnTo>
                <a:lnTo>
                  <a:pt x="18514" y="16200"/>
                </a:lnTo>
                <a:lnTo>
                  <a:pt x="3086" y="16200"/>
                </a:lnTo>
                <a:lnTo>
                  <a:pt x="3086" y="21600"/>
                </a:lnTo>
                <a:lnTo>
                  <a:pt x="0" y="10800"/>
                </a:lnTo>
                <a:close/>
              </a:path>
            </a:pathLst>
          </a:custGeom>
          <a:solidFill>
            <a:srgbClr val="6d18c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Freeform 21"/>
          <p:cNvSpPr/>
          <p:nvPr/>
        </p:nvSpPr>
        <p:spPr>
          <a:xfrm>
            <a:off x="6539040" y="1150920"/>
            <a:ext cx="1066680" cy="304920"/>
          </a:xfrm>
          <a:custGeom>
            <a:avLst/>
            <a:gdLst>
              <a:gd name="textAreaLeft" fmla="*/ 75960 w 1066680"/>
              <a:gd name="textAreaRight" fmla="*/ 990720 w 10666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086" y="0"/>
                </a:lnTo>
                <a:lnTo>
                  <a:pt x="3086" y="5400"/>
                </a:lnTo>
                <a:lnTo>
                  <a:pt x="18514" y="5400"/>
                </a:lnTo>
                <a:lnTo>
                  <a:pt x="18514" y="0"/>
                </a:lnTo>
                <a:lnTo>
                  <a:pt x="21600" y="10800"/>
                </a:lnTo>
                <a:lnTo>
                  <a:pt x="18514" y="21600"/>
                </a:lnTo>
                <a:lnTo>
                  <a:pt x="18514" y="16200"/>
                </a:lnTo>
                <a:lnTo>
                  <a:pt x="3086" y="16200"/>
                </a:lnTo>
                <a:lnTo>
                  <a:pt x="3086" y="21600"/>
                </a:lnTo>
                <a:lnTo>
                  <a:pt x="0" y="10800"/>
                </a:lnTo>
                <a:close/>
              </a:path>
            </a:pathLst>
          </a:custGeom>
          <a:solidFill>
            <a:srgbClr val="6d18c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Freeform 22"/>
          <p:cNvSpPr/>
          <p:nvPr/>
        </p:nvSpPr>
        <p:spPr>
          <a:xfrm>
            <a:off x="6539040" y="1797120"/>
            <a:ext cx="1066680" cy="304560"/>
          </a:xfrm>
          <a:custGeom>
            <a:avLst/>
            <a:gdLst>
              <a:gd name="textAreaLeft" fmla="*/ 75960 w 1066680"/>
              <a:gd name="textAreaRight" fmla="*/ 990720 w 106668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086" y="0"/>
                </a:lnTo>
                <a:lnTo>
                  <a:pt x="3086" y="5400"/>
                </a:lnTo>
                <a:lnTo>
                  <a:pt x="18514" y="5400"/>
                </a:lnTo>
                <a:lnTo>
                  <a:pt x="18514" y="0"/>
                </a:lnTo>
                <a:lnTo>
                  <a:pt x="21600" y="10800"/>
                </a:lnTo>
                <a:lnTo>
                  <a:pt x="18514" y="21600"/>
                </a:lnTo>
                <a:lnTo>
                  <a:pt x="18514" y="16200"/>
                </a:lnTo>
                <a:lnTo>
                  <a:pt x="3086" y="16200"/>
                </a:lnTo>
                <a:lnTo>
                  <a:pt x="3086" y="21600"/>
                </a:lnTo>
                <a:lnTo>
                  <a:pt x="0" y="10800"/>
                </a:lnTo>
                <a:close/>
              </a:path>
            </a:pathLst>
          </a:custGeom>
          <a:solidFill>
            <a:srgbClr val="6d18c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49" name="Picture 23" descr=""/>
          <p:cNvPicPr/>
          <p:nvPr/>
        </p:nvPicPr>
        <p:blipFill>
          <a:blip r:embed="rId1"/>
          <a:stretch/>
        </p:blipFill>
        <p:spPr>
          <a:xfrm>
            <a:off x="3429000" y="1600200"/>
            <a:ext cx="2948040" cy="1860480"/>
          </a:xfrm>
          <a:prstGeom prst="rect">
            <a:avLst/>
          </a:prstGeom>
          <a:ln w="0">
            <a:noFill/>
          </a:ln>
        </p:spPr>
      </p:pic>
      <p:sp>
        <p:nvSpPr>
          <p:cNvPr id="150" name="Freeform 24"/>
          <p:cNvSpPr/>
          <p:nvPr/>
        </p:nvSpPr>
        <p:spPr>
          <a:xfrm>
            <a:off x="6575400" y="2616120"/>
            <a:ext cx="1066680" cy="304920"/>
          </a:xfrm>
          <a:custGeom>
            <a:avLst/>
            <a:gdLst>
              <a:gd name="textAreaLeft" fmla="*/ 75960 w 1066680"/>
              <a:gd name="textAreaRight" fmla="*/ 990720 w 10666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086" y="0"/>
                </a:lnTo>
                <a:lnTo>
                  <a:pt x="3086" y="5400"/>
                </a:lnTo>
                <a:lnTo>
                  <a:pt x="18514" y="5400"/>
                </a:lnTo>
                <a:lnTo>
                  <a:pt x="18514" y="0"/>
                </a:lnTo>
                <a:lnTo>
                  <a:pt x="21600" y="10800"/>
                </a:lnTo>
                <a:lnTo>
                  <a:pt x="18514" y="21600"/>
                </a:lnTo>
                <a:lnTo>
                  <a:pt x="18514" y="16200"/>
                </a:lnTo>
                <a:lnTo>
                  <a:pt x="3086" y="16200"/>
                </a:lnTo>
                <a:lnTo>
                  <a:pt x="3086" y="21600"/>
                </a:lnTo>
                <a:lnTo>
                  <a:pt x="0" y="10800"/>
                </a:lnTo>
                <a:close/>
              </a:path>
            </a:pathLst>
          </a:custGeom>
          <a:solidFill>
            <a:srgbClr val="6d18c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AutoShape 25"/>
          <p:cNvSpPr/>
          <p:nvPr/>
        </p:nvSpPr>
        <p:spPr>
          <a:xfrm>
            <a:off x="5867280" y="4724280"/>
            <a:ext cx="3159360" cy="1392480"/>
          </a:xfrm>
          <a:prstGeom prst="pie">
            <a:avLst/>
          </a:prstGeom>
          <a:solidFill>
            <a:srgbClr val="f7964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ROUTER TABLE CONTENTS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d#1 :  Slave#_Index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eld#2 :  Slave#_Start_Addrt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eld#3 :  Slave#_End_addr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ield contents for Slave_1 have bee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led at sc_main() and rest others withi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p_module 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" name="AutoShape 26"/>
          <p:cNvSpPr/>
          <p:nvPr/>
        </p:nvSpPr>
        <p:spPr>
          <a:xfrm>
            <a:off x="6445080" y="3914640"/>
            <a:ext cx="2546640" cy="814680"/>
          </a:xfrm>
          <a:prstGeom prst="pie">
            <a:avLst/>
          </a:prstGeom>
          <a:solidFill>
            <a:srgbClr val="f79646">
              <a:alpha val="99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of Masters (eoe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of Slaves (eoe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x' Addressable Range (mutable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53" name="Straight Arrow Connector 8"/>
          <p:cNvCxnSpPr/>
          <p:nvPr/>
        </p:nvCxnSpPr>
        <p:spPr>
          <a:xfrm>
            <a:off x="7108560" y="564840"/>
            <a:ext cx="1080" cy="586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54" name="Elbow Connector 12"/>
          <p:cNvCxnSpPr/>
          <p:nvPr/>
        </p:nvCxnSpPr>
        <p:spPr>
          <a:xfrm rot="5400000">
            <a:off x="2401200" y="720360"/>
            <a:ext cx="1050120" cy="421560"/>
          </a:xfrm>
          <a:prstGeom prst="bentConnector3">
            <a:avLst>
              <a:gd name="adj1" fmla="val 25514"/>
            </a:avLst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155" name="Rectangle 29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4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AutoShape 1"/>
          <p:cNvSpPr/>
          <p:nvPr/>
        </p:nvSpPr>
        <p:spPr>
          <a:xfrm>
            <a:off x="6051600" y="120600"/>
            <a:ext cx="2971800" cy="114300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Bitstream Charter"/>
              </a:rPr>
              <a:t>NOTE</a:t>
            </a:r>
            <a:r>
              <a:rPr b="1" lang="en-US" sz="1800" spc="-1" strike="noStrike">
                <a:solidFill>
                  <a:srgbClr val="000000"/>
                </a:solidFill>
                <a:latin typeface="Bitstream Charter"/>
              </a:rPr>
              <a:t> :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itstream Charter"/>
              <a:buAutoNum type="arabicPeriod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“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top_module”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 instantiates the router,   master(s) and slave(s).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itstream Charter"/>
              <a:buAutoNum type="arabicPeriod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“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top_module”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 binds the above    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      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modules using the TLM2.0 standar</a:t>
            </a:r>
            <a:r>
              <a:rPr b="0" i="1" lang="en-US" sz="1400" spc="-1" strike="noStrike">
                <a:solidFill>
                  <a:srgbClr val="000000"/>
                </a:solidFill>
                <a:latin typeface="Bitstream Charter"/>
              </a:rPr>
              <a:t>d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" name="AutoShape 2"/>
          <p:cNvSpPr/>
          <p:nvPr/>
        </p:nvSpPr>
        <p:spPr>
          <a:xfrm>
            <a:off x="254160" y="228600"/>
            <a:ext cx="2286000" cy="457200"/>
          </a:xfrm>
          <a:prstGeom prst="pie">
            <a:avLst/>
          </a:prstGeom>
          <a:solidFill>
            <a:srgbClr val="00d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Bitstream Charter"/>
              </a:rPr>
              <a:t>Inside sc_main()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AutoShape 3"/>
          <p:cNvSpPr/>
          <p:nvPr/>
        </p:nvSpPr>
        <p:spPr>
          <a:xfrm>
            <a:off x="76320" y="768240"/>
            <a:ext cx="5333760" cy="6033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3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Set number of masters for the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TOP MODULE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myGlobalBroker-&gt;set_preset_cci_value(“top_module_inst.number_of_masters”, "2")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AutoShape 4"/>
          <p:cNvSpPr/>
          <p:nvPr/>
        </p:nvSpPr>
        <p:spPr>
          <a:xfrm>
            <a:off x="76320" y="1539720"/>
            <a:ext cx="6966000" cy="603360"/>
          </a:xfrm>
          <a:prstGeom prst="pie">
            <a:avLst/>
          </a:prstGeom>
          <a:solidFill>
            <a:srgbClr val="ffff00"/>
          </a:solidFill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Re-Set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number of masters for the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 TOP MODULE 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(to illustrate that the last set value is considered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myGlobalBroker-&gt;set_preset_cci_value(“top_module_inst.number_of_masters”, "1")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AutoShape 5"/>
          <p:cNvSpPr/>
          <p:nvPr/>
        </p:nvSpPr>
        <p:spPr>
          <a:xfrm>
            <a:off x="76320" y="2343960"/>
            <a:ext cx="6324480" cy="455400"/>
          </a:xfrm>
          <a:prstGeom prst="pie">
            <a:avLst/>
          </a:prstGeom>
          <a:solidFill>
            <a:srgbClr val="ffffff"/>
          </a:solidFill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Set number of slaves for the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TOP MODULE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myGlobalBroker&gt;set_preset_cci_value(“top_module_inst.number_of_slaves”, "4")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AutoShape 6"/>
          <p:cNvSpPr/>
          <p:nvPr/>
        </p:nvSpPr>
        <p:spPr>
          <a:xfrm>
            <a:off x="76320" y="2969640"/>
            <a:ext cx="7192800" cy="455400"/>
          </a:xfrm>
          <a:prstGeom prst="pie">
            <a:avLst/>
          </a:prstGeom>
          <a:solidFill>
            <a:srgbClr val="ffffff"/>
          </a:solidFill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Override the default maximum set addressable limit of the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ROUTER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myGlobalBroker-&gt;set_preset_cci_value(“top_module_inst.RouterInstance.addr_max”, "1024")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AutoShape 7"/>
          <p:cNvSpPr/>
          <p:nvPr/>
        </p:nvSpPr>
        <p:spPr>
          <a:xfrm>
            <a:off x="76320" y="3599640"/>
            <a:ext cx="7310160" cy="1369440"/>
          </a:xfrm>
          <a:prstGeom prst="pie">
            <a:avLst/>
          </a:prstGeom>
          <a:solidFill>
            <a:srgbClr val="cc0000"/>
          </a:solidFill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Set and lock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Router 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Table contents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preset values 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for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Slave_1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myGlobalBroker-&gt;set_preset_cci_value(“top_module_inst.RouterInstance.r_index_1”, "1")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myGlobalBroker-&gt;lock_preset_value(“top_module_inst.RouterInstance.r_index_1”)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myGlobalBroker-&gt;set_preset_cci_value(“top_module_inst.RouterInstance.r_addr_start”, "128")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myGlobalBroker-&gt;lock_preset_value(“top_module_inst.RouterInstance.r_addr_start”)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myGlobalBroker-&gt;set_preset_cci_value(“top_module_inst.RouterInstance.r_addr_end”, “255”)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myGlobalBroker-&gt;lock_preset_value(“top_module_inst.RouterInstance.r_addr_end”)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AutoShape 8"/>
          <p:cNvSpPr/>
          <p:nvPr/>
        </p:nvSpPr>
        <p:spPr>
          <a:xfrm>
            <a:off x="81000" y="5168880"/>
            <a:ext cx="3424320" cy="455400"/>
          </a:xfrm>
          <a:prstGeom prst="pie">
            <a:avLst/>
          </a:prstGeom>
          <a:solidFill>
            <a:srgbClr val="bfbfbf"/>
          </a:solidFill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Instantiate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TOP MODULE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top_module top_mod(“top_module_inst”)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AutoShape 9"/>
          <p:cNvSpPr/>
          <p:nvPr/>
        </p:nvSpPr>
        <p:spPr>
          <a:xfrm>
            <a:off x="76320" y="5661000"/>
            <a:ext cx="3886200" cy="638640"/>
          </a:xfrm>
          <a:prstGeom prst="pie">
            <a:avLst/>
          </a:prstGeom>
          <a:solidFill>
            <a:srgbClr val="ffffff"/>
          </a:solidFill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Simualation Starts after construction of the hierarchy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sc_start(1140, SC_NS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Rectangle 12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5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0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AutoShape 1"/>
          <p:cNvSpPr/>
          <p:nvPr/>
        </p:nvSpPr>
        <p:spPr>
          <a:xfrm>
            <a:off x="254160" y="228600"/>
            <a:ext cx="3174840" cy="457200"/>
          </a:xfrm>
          <a:prstGeom prst="pie">
            <a:avLst/>
          </a:prstGeom>
          <a:solidFill>
            <a:srgbClr val="cccc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Bitstream Charter"/>
              </a:rPr>
              <a:t>Within TOP_MODUL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Freeform 2"/>
          <p:cNvSpPr/>
          <p:nvPr/>
        </p:nvSpPr>
        <p:spPr>
          <a:xfrm>
            <a:off x="243000" y="1020600"/>
            <a:ext cx="8443800" cy="5151600"/>
          </a:xfrm>
          <a:custGeom>
            <a:avLst/>
            <a:gdLst>
              <a:gd name="textAreaLeft" fmla="*/ 3600 w 8443800"/>
              <a:gd name="textAreaRight" fmla="*/ 8440200 w 8443800"/>
              <a:gd name="textAreaTop" fmla="*/ 3600 h 5151600"/>
              <a:gd name="textAreaBottom" fmla="*/ 5148000 h 5151600"/>
            </a:gdLst>
            <a:ahLst/>
            <a:rect l="textAreaLeft" t="textAreaTop" r="textAreaRight" b="textAreaBottom"/>
            <a:pathLst>
              <a:path w="8443798" h="5151601">
                <a:moveTo>
                  <a:pt x="13356" y="0"/>
                </a:moveTo>
                <a:lnTo>
                  <a:pt x="13355" y="0"/>
                </a:lnTo>
                <a:cubicBezTo>
                  <a:pt x="5979" y="0"/>
                  <a:pt x="0" y="5979"/>
                  <a:pt x="0" y="13355"/>
                </a:cubicBezTo>
                <a:lnTo>
                  <a:pt x="0" y="5138245"/>
                </a:lnTo>
                <a:cubicBezTo>
                  <a:pt x="0" y="5145621"/>
                  <a:pt x="5979" y="5151600"/>
                  <a:pt x="13355" y="5151601"/>
                </a:cubicBezTo>
                <a:lnTo>
                  <a:pt x="8430442" y="5151601"/>
                </a:lnTo>
                <a:cubicBezTo>
                  <a:pt x="8437818" y="5151600"/>
                  <a:pt x="8443798" y="5145621"/>
                  <a:pt x="8443798" y="5138245"/>
                </a:cubicBezTo>
                <a:lnTo>
                  <a:pt x="8443798" y="13356"/>
                </a:lnTo>
                <a:cubicBezTo>
                  <a:pt x="8443798" y="5979"/>
                  <a:pt x="8437818" y="0"/>
                  <a:pt x="8430442" y="0"/>
                </a:cubicBezTo>
                <a:lnTo>
                  <a:pt x="13356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99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AutoShape 3"/>
          <p:cNvSpPr/>
          <p:nvPr/>
        </p:nvSpPr>
        <p:spPr>
          <a:xfrm>
            <a:off x="890640" y="1591200"/>
            <a:ext cx="7491240" cy="821160"/>
          </a:xfrm>
          <a:prstGeom prst="pie">
            <a:avLst/>
          </a:prstGeom>
          <a:solidFill>
            <a:srgbClr val="cc0000"/>
          </a:solidFill>
          <a:ln w="9360">
            <a:solidFill>
              <a:srgbClr val="b3b3b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Set number of masters for the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ROUTER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 and lock them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myGlobalBroker-&gt;set_preset_cci_value(“%s.RouterInstance.r_masters”, name(),  n_masters.get())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Here,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r_masters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=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1;   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(default value overridden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myGlobalBroker-&gt;lock_preset_value(“top_module_inst.RouterInstance.r_masters”)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9" name="AutoShape 4"/>
          <p:cNvSpPr/>
          <p:nvPr/>
        </p:nvSpPr>
        <p:spPr>
          <a:xfrm>
            <a:off x="422280" y="1128600"/>
            <a:ext cx="2092320" cy="330480"/>
          </a:xfrm>
          <a:prstGeom prst="pie">
            <a:avLst/>
          </a:prstGeom>
          <a:solidFill>
            <a:srgbClr val="cccccc"/>
          </a:solidFill>
          <a:ln w="9360">
            <a:solidFill>
              <a:srgbClr val="99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Within CONSTRUCTOR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0" name="AutoShape 5"/>
          <p:cNvSpPr/>
          <p:nvPr/>
        </p:nvSpPr>
        <p:spPr>
          <a:xfrm>
            <a:off x="6364440" y="120600"/>
            <a:ext cx="2622240" cy="79380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2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Bitstream Charter"/>
              </a:rPr>
              <a:t>Default Values</a:t>
            </a:r>
            <a:r>
              <a:rPr b="1" lang="en-US" sz="1800" spc="-1" strike="noStrike">
                <a:solidFill>
                  <a:srgbClr val="000000"/>
                </a:solidFill>
                <a:latin typeface="Bitstream Charter"/>
              </a:rPr>
              <a:t> :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Number of masters : n_masters = 0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Number of slaves : n_slaves = 0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AutoShape 6"/>
          <p:cNvSpPr/>
          <p:nvPr/>
        </p:nvSpPr>
        <p:spPr>
          <a:xfrm>
            <a:off x="890640" y="2592720"/>
            <a:ext cx="7262640" cy="821160"/>
          </a:xfrm>
          <a:prstGeom prst="pie">
            <a:avLst/>
          </a:prstGeom>
          <a:solidFill>
            <a:srgbClr val="cc0000"/>
          </a:solidFill>
          <a:ln w="9360">
            <a:solidFill>
              <a:srgbClr val="b3b3b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Set number of slaves for the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ROUTER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 (RouterTable) and lock them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myGlobalBroker-&gt;set_preset_cci_value(“%s.RouterInstance.r_slaves”, name(), n_slaves.get())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Here,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r_slaves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=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4;  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(default value overridden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myGlobalBroker-&gt;lock_preset_value(“top_module_inst.RouterInstance.r_slaves”)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" name="AutoShape 7"/>
          <p:cNvSpPr/>
          <p:nvPr/>
        </p:nvSpPr>
        <p:spPr>
          <a:xfrm>
            <a:off x="2514600" y="3672000"/>
            <a:ext cx="3849840" cy="601560"/>
          </a:xfrm>
          <a:prstGeom prst="pie">
            <a:avLst/>
          </a:prstGeom>
          <a:solidFill>
            <a:srgbClr val="ff9966"/>
          </a:solidFill>
          <a:ln w="9360">
            <a:solidFill>
              <a:srgbClr val="b3b3b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3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Instantiate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ROUTER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 instance and fill the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ROUTER TABLE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 based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on the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Slave_size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preset value (if set)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router routerInstance(“RouterInstance”)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3" name="AutoShape 8"/>
          <p:cNvSpPr/>
          <p:nvPr/>
        </p:nvSpPr>
        <p:spPr>
          <a:xfrm>
            <a:off x="495360" y="4710960"/>
            <a:ext cx="3531960" cy="455400"/>
          </a:xfrm>
          <a:prstGeom prst="pie">
            <a:avLst/>
          </a:prstGeom>
          <a:solidFill>
            <a:srgbClr val="23ff23"/>
          </a:solidFill>
          <a:ln w="9360">
            <a:solidFill>
              <a:srgbClr val="355e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Construct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MASTER(S) (their number as set within ‘sc_main’ 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4" name="AutoShape 9"/>
          <p:cNvSpPr/>
          <p:nvPr/>
        </p:nvSpPr>
        <p:spPr>
          <a:xfrm>
            <a:off x="4748040" y="4713120"/>
            <a:ext cx="3657600" cy="638640"/>
          </a:xfrm>
          <a:prstGeom prst="pie">
            <a:avLst/>
          </a:prstGeom>
          <a:solidFill>
            <a:srgbClr val="ff3366"/>
          </a:solidFill>
          <a:ln w="9360">
            <a:solidFill>
              <a:srgbClr val="355e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Initializes base address of slave(s)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to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router’s start address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and finally Cosntructs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Slave(s) (number of slave(s) as set within 'sc_main'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5" name="AutoShape 10"/>
          <p:cNvSpPr/>
          <p:nvPr/>
        </p:nvSpPr>
        <p:spPr>
          <a:xfrm>
            <a:off x="963720" y="4287960"/>
            <a:ext cx="7084800" cy="407880"/>
          </a:xfrm>
          <a:prstGeom prst="pie">
            <a:avLst/>
          </a:prstGeom>
          <a:solidFill>
            <a:srgbClr val="9966cc"/>
          </a:solidFill>
          <a:ln w="9360">
            <a:solidFill>
              <a:srgbClr val="355e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Binding in accordance to TLM2.0 standard via ROUTER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6" name="AutoShape 11"/>
          <p:cNvSpPr/>
          <p:nvPr/>
        </p:nvSpPr>
        <p:spPr>
          <a:xfrm>
            <a:off x="317520" y="5418720"/>
            <a:ext cx="7302600" cy="821160"/>
          </a:xfrm>
          <a:prstGeom prst="pie">
            <a:avLst/>
          </a:prstGeom>
          <a:solidFill>
            <a:srgbClr val="b3b300"/>
          </a:solidFill>
          <a:ln w="9360">
            <a:solidFill>
              <a:srgbClr val="b3b3b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Try and Set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the preset values to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ROUTER TABLE 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contents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Setting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Slave_1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contents will result in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failed parameter setting warning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generation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Warning: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DEFAULT_BROKER_0: set_preset_cci_value: ... setting failed because preset value is locked!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7" name="AutoShape 12"/>
          <p:cNvSpPr/>
          <p:nvPr/>
        </p:nvSpPr>
        <p:spPr>
          <a:xfrm>
            <a:off x="7405560" y="3200400"/>
            <a:ext cx="1281240" cy="1079640"/>
          </a:xfrm>
          <a:prstGeom prst="borderCallout1">
            <a:avLst>
              <a:gd name="adj1" fmla="val 18750"/>
              <a:gd name="adj2" fmla="val -8333"/>
              <a:gd name="adj3" fmla="val 72763"/>
              <a:gd name="adj4" fmla="val -81569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Used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try-catch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mechanism to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set the prese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values for the</a:t>
            </a:r>
            <a:br>
              <a:rPr sz="1200"/>
            </a:b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Router Table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8" name="AutoShape 13"/>
          <p:cNvSpPr/>
          <p:nvPr/>
        </p:nvSpPr>
        <p:spPr>
          <a:xfrm flipH="1">
            <a:off x="343800" y="3573360"/>
            <a:ext cx="1079640" cy="6858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62379"/>
              <a:gd name="adj6" fmla="val -100000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Slave_siz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preset valu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also specified.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9" name="Rectangle 16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6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0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AutoShape 1"/>
          <p:cNvSpPr/>
          <p:nvPr/>
        </p:nvSpPr>
        <p:spPr>
          <a:xfrm>
            <a:off x="254160" y="228600"/>
            <a:ext cx="2489040" cy="457200"/>
          </a:xfrm>
          <a:prstGeom prst="pie">
            <a:avLst/>
          </a:prstGeom>
          <a:solidFill>
            <a:srgbClr val="ff99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Bitstream Charter"/>
              </a:rPr>
              <a:t>Within ROUTER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1" name="Freeform 2"/>
          <p:cNvSpPr/>
          <p:nvPr/>
        </p:nvSpPr>
        <p:spPr>
          <a:xfrm>
            <a:off x="254160" y="3657600"/>
            <a:ext cx="3860640" cy="1828800"/>
          </a:xfrm>
          <a:custGeom>
            <a:avLst/>
            <a:gdLst/>
            <a:ahLst/>
            <a:rect l="l" t="t" r="r" b="b"/>
            <a:pathLst>
              <a:path w="3860642" h="1828800">
                <a:moveTo>
                  <a:pt x="1016" y="0"/>
                </a:moveTo>
                <a:lnTo>
                  <a:pt x="1015" y="0"/>
                </a:lnTo>
                <a:cubicBezTo>
                  <a:pt x="454" y="0"/>
                  <a:pt x="0" y="454"/>
                  <a:pt x="0" y="1015"/>
                </a:cubicBezTo>
                <a:lnTo>
                  <a:pt x="0" y="1827784"/>
                </a:lnTo>
                <a:cubicBezTo>
                  <a:pt x="0" y="1828345"/>
                  <a:pt x="454" y="1828799"/>
                  <a:pt x="1015" y="1828800"/>
                </a:cubicBezTo>
                <a:lnTo>
                  <a:pt x="3859626" y="1828800"/>
                </a:lnTo>
                <a:cubicBezTo>
                  <a:pt x="3860187" y="1828799"/>
                  <a:pt x="3860642" y="1828345"/>
                  <a:pt x="3860642" y="1827784"/>
                </a:cubicBezTo>
                <a:lnTo>
                  <a:pt x="3860642" y="1016"/>
                </a:lnTo>
                <a:cubicBezTo>
                  <a:pt x="3860642" y="454"/>
                  <a:pt x="3860187" y="0"/>
                  <a:pt x="3859626" y="0"/>
                </a:cubicBezTo>
                <a:lnTo>
                  <a:pt x="1016" y="0"/>
                </a:lnTo>
                <a:close/>
              </a:path>
            </a:pathLst>
          </a:custGeom>
          <a:solidFill>
            <a:srgbClr val="ff99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2" name="AutoShape 3"/>
          <p:cNvSpPr/>
          <p:nvPr/>
        </p:nvSpPr>
        <p:spPr>
          <a:xfrm>
            <a:off x="5979960" y="84240"/>
            <a:ext cx="3079800" cy="102240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Bitstream Charter"/>
              </a:rPr>
              <a:t>Default Values</a:t>
            </a:r>
            <a:r>
              <a:rPr b="1" lang="en-US" sz="1800" spc="-1" strike="noStrike">
                <a:solidFill>
                  <a:srgbClr val="000000"/>
                </a:solidFill>
                <a:latin typeface="Bitstream Charter"/>
              </a:rPr>
              <a:t> :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Number of masters : r_masters = 0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Number of slaves : r_slaves = 0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Max' Addressable Limit : addr_limit = 64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3" name="AutoShape 4"/>
          <p:cNvSpPr/>
          <p:nvPr/>
        </p:nvSpPr>
        <p:spPr>
          <a:xfrm>
            <a:off x="398520" y="3827520"/>
            <a:ext cx="2489040" cy="330120"/>
          </a:xfrm>
          <a:prstGeom prst="pie">
            <a:avLst/>
          </a:prstGeom>
          <a:solidFill>
            <a:srgbClr val="ff99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87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Charter"/>
              </a:rPr>
              <a:t>Within 'beoe' phas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4" name="AutoShape 5"/>
          <p:cNvSpPr/>
          <p:nvPr/>
        </p:nvSpPr>
        <p:spPr>
          <a:xfrm>
            <a:off x="398520" y="4343400"/>
            <a:ext cx="3487680" cy="914400"/>
          </a:xfrm>
          <a:prstGeom prst="pie">
            <a:avLst/>
          </a:prstGeom>
          <a:solidFill>
            <a:srgbClr val="ff99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Builds the Router Table contents with default  values within this phase in case if no preset values were set from the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top_module.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5" name="Freeform 6"/>
          <p:cNvSpPr/>
          <p:nvPr/>
        </p:nvSpPr>
        <p:spPr>
          <a:xfrm>
            <a:off x="254160" y="912960"/>
            <a:ext cx="4622760" cy="2058840"/>
          </a:xfrm>
          <a:custGeom>
            <a:avLst/>
            <a:gdLst/>
            <a:ahLst/>
            <a:rect l="l" t="t" r="r" b="b"/>
            <a:pathLst>
              <a:path w="4546442" h="2058835">
                <a:moveTo>
                  <a:pt x="1144" y="0"/>
                </a:moveTo>
                <a:lnTo>
                  <a:pt x="1143" y="0"/>
                </a:lnTo>
                <a:cubicBezTo>
                  <a:pt x="512" y="0"/>
                  <a:pt x="0" y="512"/>
                  <a:pt x="0" y="1143"/>
                </a:cubicBezTo>
                <a:lnTo>
                  <a:pt x="0" y="2057691"/>
                </a:lnTo>
                <a:cubicBezTo>
                  <a:pt x="0" y="2058322"/>
                  <a:pt x="512" y="2058834"/>
                  <a:pt x="1143" y="2058835"/>
                </a:cubicBezTo>
                <a:lnTo>
                  <a:pt x="4545298" y="2058835"/>
                </a:lnTo>
                <a:cubicBezTo>
                  <a:pt x="4545929" y="2058834"/>
                  <a:pt x="4546442" y="2058322"/>
                  <a:pt x="4546442" y="2057691"/>
                </a:cubicBezTo>
                <a:lnTo>
                  <a:pt x="4546442" y="1144"/>
                </a:lnTo>
                <a:cubicBezTo>
                  <a:pt x="4546442" y="512"/>
                  <a:pt x="4545929" y="0"/>
                  <a:pt x="4545298" y="0"/>
                </a:cubicBezTo>
                <a:lnTo>
                  <a:pt x="1144" y="0"/>
                </a:lnTo>
                <a:close/>
              </a:path>
            </a:pathLst>
          </a:custGeom>
          <a:solidFill>
            <a:srgbClr val="ff99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6" name="AutoShape 7"/>
          <p:cNvSpPr/>
          <p:nvPr/>
        </p:nvSpPr>
        <p:spPr>
          <a:xfrm>
            <a:off x="361800" y="1020600"/>
            <a:ext cx="2489400" cy="328680"/>
          </a:xfrm>
          <a:prstGeom prst="pie">
            <a:avLst/>
          </a:prstGeom>
          <a:solidFill>
            <a:srgbClr val="ff99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87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Charter"/>
              </a:rPr>
              <a:t>Within constructor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7" name="AutoShape 8"/>
          <p:cNvSpPr/>
          <p:nvPr/>
        </p:nvSpPr>
        <p:spPr>
          <a:xfrm>
            <a:off x="361800" y="1530360"/>
            <a:ext cx="4173840" cy="328680"/>
          </a:xfrm>
          <a:prstGeom prst="pie">
            <a:avLst/>
          </a:prstGeom>
          <a:solidFill>
            <a:srgbClr val="ff99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addr_limit =1024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(already initialized within sc_main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8" name="AutoShape 9"/>
          <p:cNvSpPr/>
          <p:nvPr/>
        </p:nvSpPr>
        <p:spPr>
          <a:xfrm>
            <a:off x="398520" y="1922400"/>
            <a:ext cx="4325760" cy="328680"/>
          </a:xfrm>
          <a:prstGeom prst="pie">
            <a:avLst/>
          </a:prstGeom>
          <a:solidFill>
            <a:srgbClr val="ff99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r_masters = 1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(already set and locked by TOP_MODULE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9" name="AutoShape 10"/>
          <p:cNvSpPr/>
          <p:nvPr/>
        </p:nvSpPr>
        <p:spPr>
          <a:xfrm>
            <a:off x="398520" y="2390760"/>
            <a:ext cx="4173480" cy="328680"/>
          </a:xfrm>
          <a:prstGeom prst="pie">
            <a:avLst/>
          </a:prstGeom>
          <a:solidFill>
            <a:srgbClr val="ff99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r_slaves = 4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 (already set and locked by TOP_MODULE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0" name="AutoShape 11"/>
          <p:cNvSpPr/>
          <p:nvPr/>
        </p:nvSpPr>
        <p:spPr>
          <a:xfrm>
            <a:off x="5896080" y="4424400"/>
            <a:ext cx="914400" cy="457200"/>
          </a:xfrm>
          <a:prstGeom prst="pie">
            <a:avLst/>
          </a:prstGeom>
          <a:solidFill>
            <a:srgbClr val="3deb3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ster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1" name="AutoShape 12"/>
          <p:cNvSpPr/>
          <p:nvPr/>
        </p:nvSpPr>
        <p:spPr>
          <a:xfrm>
            <a:off x="7875720" y="4387680"/>
            <a:ext cx="914400" cy="457200"/>
          </a:xfrm>
          <a:prstGeom prst="pie">
            <a:avLst/>
          </a:prstGeom>
          <a:solidFill>
            <a:srgbClr val="ff33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ave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2" name="AutoShape 13"/>
          <p:cNvSpPr/>
          <p:nvPr/>
        </p:nvSpPr>
        <p:spPr>
          <a:xfrm>
            <a:off x="6558120" y="2732040"/>
            <a:ext cx="1371600" cy="457200"/>
          </a:xfrm>
          <a:prstGeom prst="pie">
            <a:avLst/>
          </a:prstGeom>
          <a:solidFill>
            <a:srgbClr val="ff99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3" name="AutoShape 14"/>
          <p:cNvSpPr/>
          <p:nvPr/>
        </p:nvSpPr>
        <p:spPr>
          <a:xfrm>
            <a:off x="5823000" y="2236680"/>
            <a:ext cx="2971800" cy="4572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Bitstream Charter"/>
              </a:rPr>
              <a:t>TLM2 Communication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94" name="AutoShape 15"/>
          <p:cNvCxnSpPr/>
          <p:nvPr/>
        </p:nvCxnSpPr>
        <p:spPr>
          <a:xfrm flipV="1">
            <a:off x="6110280" y="3296880"/>
            <a:ext cx="527760" cy="953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16"/>
          <p:cNvCxnSpPr/>
          <p:nvPr/>
        </p:nvCxnSpPr>
        <p:spPr>
          <a:xfrm>
            <a:off x="7911720" y="3325320"/>
            <a:ext cx="618120" cy="942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17"/>
          <p:cNvCxnSpPr/>
          <p:nvPr/>
        </p:nvCxnSpPr>
        <p:spPr>
          <a:xfrm flipH="1" flipV="1">
            <a:off x="7798680" y="3436560"/>
            <a:ext cx="484920" cy="79128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97" name="AutoShape 18"/>
          <p:cNvCxnSpPr/>
          <p:nvPr/>
        </p:nvCxnSpPr>
        <p:spPr>
          <a:xfrm flipH="1">
            <a:off x="6285960" y="3443400"/>
            <a:ext cx="440280" cy="821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98" name="Rectangle 21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7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Expected Output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(ex09_Hierarchical_Override_of_Parameter_Values.log)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80880" y="121932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SystemC Simul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sc_main: [MAIN] : Setting preset value of the number of initiators to 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sc_main: [MAIN] : Setting preset value of the number of initiators to 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sc_main: [MAIN] : Setting preset value of the number of targets to 4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sc_main: [MAIN] : Set and lock Router Table target_1 content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sc_main: [MAIN] : Set and lock Router Table Start Address for target_1 to 12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sc_main: [MAIN] : Set and lock Router Table End Address for target_1 to 255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sc_main: [MAIN] : Instantiate top module after setting preset values to top_module, router and target parameter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top_module_inst: @0 s, [TOP_MODULE C_TOR] -- [TOP MODULE CONSTRUCTOR BEGINS HERE]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top_module_inst: @0 s, [TOP_MODULE C_TOR] :  Number of initiators : 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top_module_inst: @0 s, [TOP_MODULE C_TOR] :  Number of targets : 4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top_module_inst: @0 s, [TOP_MODULE C_TOR] : Creating Router : RouterInstanc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top_module_inst.RouterInstance: @0 s, [ROUTER C_TOR] ----- [ROUTER CONSTRUCTOR BEGINS HERE] ------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800" spc="-1" strike="noStrike">
                <a:solidFill>
                  <a:srgbClr val="3333cc"/>
                </a:solidFill>
                <a:latin typeface="Calibri"/>
                <a:ea typeface="Calibri"/>
              </a:rPr>
              <a:t>The remained of the logfile is interesting but too lengthy to include here; the reader is encouraged to run the example, or examine the golden logfile, to see all of the detail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8:34:41Z</dcterms:created>
  <dc:creator>P V S Phaneendra, Girish Verma</dc:creator>
  <dc:description/>
  <cp:keywords>CTPClassification=CTP_IC:VisualMarkings=</cp:keywords>
  <dc:language>en-US</dc:language>
  <cp:lastModifiedBy>Wieman, Trevor</cp:lastModifiedBy>
  <cp:lastPrinted>2017-02-05T19:45:47Z</cp:lastPrinted>
  <dcterms:modified xsi:type="dcterms:W3CDTF">2017-12-15T21:02:17Z</dcterms:modified>
  <cp:revision>45</cp:revision>
  <dc:subject/>
  <dc:title>Hierarchical_Override_of_Parameter_Val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7-12-15 21:02:17Z</vt:lpwstr>
  </property>
  <property fmtid="{D5CDD505-2E9C-101B-9397-08002B2CF9AE}" pid="5" name="TitusGUID">
    <vt:lpwstr>5dfb4e06-5d0b-41e9-9b26-1c1bb8b29aab</vt:lpwstr>
  </property>
</Properties>
</file>